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5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47E7-7D88-4594-BF17-3D5EE097B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82640" y="1380960"/>
            <a:ext cx="5284800" cy="396432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6840" y="5646600"/>
            <a:ext cx="66628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9440" y="411120"/>
            <a:ext cx="6654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47520" bIns="47520" anchor="t">
            <a:sp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 Framework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A is fully asynchronous and uncoupled; partially asynchronous request/reply SOA is loosely coupled; and the combination of the two results in the flexible and adaptable application architecture of SOA 2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5160" y="411120"/>
            <a:ext cx="67024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ision Framework: Although EDA is already used in many aspects of software, its relevance to high-level business application design is often overlooked, and its benefits are underest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782640" y="1380960"/>
            <a:ext cx="5284800" cy="39643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6840" y="5646600"/>
            <a:ext cx="66628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09440" y="403200"/>
            <a:ext cx="6561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47520" bIns="4752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ground/Tutorial: CEP is already an accepted and essential technology in certain industries, such as financial trading, energy trading and sensor net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782640" y="1380960"/>
            <a:ext cx="5284800" cy="3964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6840" y="5646600"/>
            <a:ext cx="66628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61920" y="412920"/>
            <a:ext cx="6700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ategic Planning Assumption: More than 50 percent of large enterprises will use CEP at the business application level by 2008 (0.6 probabil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82640" y="1380960"/>
            <a:ext cx="5284800" cy="39643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6840" y="5646600"/>
            <a:ext cx="666288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8850240"/>
            <a:ext cx="2971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BEA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3884760" y="8850240"/>
            <a:ext cx="2971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1309-CF7D-40D7-ACCD-533EFC4A2C32}" type="slidenum">
              <a:rPr b="0" lang="en-US" sz="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CB51-EEF0-40AF-A296-66251022C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40114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92280" y="4475880"/>
            <a:ext cx="40114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877A-DD5A-4712-BF66-A29126C92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92280" y="447588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347880" y="447588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B3A3-2880-4149-8AB3-713E5206A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48400" y="371952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4880" y="371952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92280" y="447588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648400" y="447588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04880" y="447588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2E3D-AAFB-48B5-AA7D-3F07F0FFB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292280" y="3719520"/>
            <a:ext cx="4011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4011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1480" y="1974600"/>
            <a:ext cx="41767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92280" y="447588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92280" y="3719520"/>
            <a:ext cx="4011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3A14-BB46-4416-B405-4A5D87451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47880" y="447588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2280" y="4475880"/>
            <a:ext cx="40114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40114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2280" y="4475880"/>
            <a:ext cx="40114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292280" y="447588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347880" y="447588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48400" y="371952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04880" y="371952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92280" y="447588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648400" y="447588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04880" y="4475880"/>
            <a:ext cx="12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40114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EBC2-3065-4079-9D15-F7DB949D2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4954-E1B1-420B-BE59-B3082066B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53A2-DB0F-4882-9741-FB6A84D62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81480" y="1974600"/>
            <a:ext cx="41767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5505-286A-4878-8FB8-E1DE8F9B4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92280" y="447588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8490-9E11-4EE2-9BB7-8B71AF1CF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47880" y="447588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9357-71BA-43F8-846A-F0BD839FC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922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47880" y="3719520"/>
            <a:ext cx="1957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92280" y="4475880"/>
            <a:ext cx="40114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1029-C165-42EF-B6D1-0ECE271A8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2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1560600"/>
            <a:ext cx="80438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36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17784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06640" indent="-56052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ff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06640" indent="-56052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06640" indent="-56052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674280" y="6840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2844720" y="6505200"/>
            <a:ext cx="3276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b3b3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b3b3b3"/>
                </a:solidFill>
                <a:latin typeface="Times New Roman"/>
              </a:rPr>
              <a:t>Warszawa JUG</a:t>
            </a:r>
            <a:r>
              <a:rPr b="0" lang="en-US" sz="800" spc="-1" strike="noStrike">
                <a:solidFill>
                  <a:srgbClr val="b3b3b3"/>
                </a:solidFill>
                <a:latin typeface="Times New Roman"/>
                <a:ea typeface="ＭＳ Ｐゴシック"/>
              </a:rPr>
              <a:t>|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fld id="{2ED662F0-F600-49AA-BF6D-A8380CAFC5B7}" type="slidenum">
              <a:rPr b="0" lang="en-US" sz="800" spc="-1" strike="noStrike">
                <a:solidFill>
                  <a:srgbClr val="b3b3b3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1480" y="19746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172360" y="61484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002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  <a:p>
            <a:pPr lvl="1" marL="396720" indent="-53640" algn="ctr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162000" algn="ctr">
              <a:lnSpc>
                <a:spcPts val="1998"/>
              </a:lnSpc>
              <a:spcBef>
                <a:spcPts val="788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742680"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633240" indent="812880" algn="ctr">
              <a:lnSpc>
                <a:spcPct val="110000"/>
              </a:lnSpc>
              <a:spcBef>
                <a:spcPts val="400"/>
              </a:spcBef>
              <a:buClr>
                <a:srgbClr val="ff002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633240" indent="812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633240" indent="812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7.png"/><Relationship Id="rId7" Type="http://schemas.openxmlformats.org/officeDocument/2006/relationships/image" Target="../media/image1.jpeg"/><Relationship Id="rId8" Type="http://schemas.openxmlformats.org/officeDocument/2006/relationships/image" Target="../media/image7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7.pn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7.png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jpe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waldemar_kot@yahoo.com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łożone i strumieniowe przetwarzanie zdarzeń w Jav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e002b"/>
                </a:solidFill>
                <a:latin typeface="Arial"/>
              </a:rPr>
              <a:t>Waldek Kot</a:t>
            </a:r>
            <a:endParaRPr b="0" lang="en-US" sz="2200" spc="-1" strike="noStrike">
              <a:solidFill>
                <a:srgbClr val="fe002b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676600" y="1849320"/>
            <a:ext cx="790560" cy="1069920"/>
          </a:xfrm>
          <a:custGeom>
            <a:avLst/>
            <a:gdLst>
              <a:gd name="textAreaLeft" fmla="*/ 17640 w 790560"/>
              <a:gd name="textAreaRight" fmla="*/ 772920 w 790560"/>
              <a:gd name="textAreaTop" fmla="*/ 17640 h 1069920"/>
              <a:gd name="textAreaBottom" fmla="*/ 1052280 h 1069920"/>
            </a:gdLst>
            <a:ahLst/>
            <a:rect l="textAreaLeft" t="textAreaTop" r="textAreaRight" b="textAreaBottom"/>
            <a:pathLst>
              <a:path w="21600" h="29229">
                <a:moveTo>
                  <a:pt x="1651" y="0"/>
                </a:moveTo>
                <a:arcTo wR="1651" hR="1651" stAng="16200000" swAng="-5400000"/>
                <a:lnTo>
                  <a:pt x="0" y="27578"/>
                </a:lnTo>
                <a:arcTo wR="1651" hR="1651" stAng="10800000" swAng="-5400000"/>
                <a:lnTo>
                  <a:pt x="19949" y="29229"/>
                </a:lnTo>
                <a:arcTo wR="1651" hR="1651" stAng="5400000" swAng="-5400000"/>
                <a:lnTo>
                  <a:pt x="21600" y="1651"/>
                </a:lnTo>
                <a:arcTo wR="1651" hR="1651" stAng="0" swAng="-5400000"/>
                <a:close/>
              </a:path>
            </a:pathLst>
          </a:custGeom>
          <a:gradFill rotWithShape="0">
            <a:gsLst>
              <a:gs pos="0">
                <a:srgbClr val="2778b1">
                  <a:alpha val="0"/>
                </a:srgbClr>
              </a:gs>
              <a:gs pos="50000">
                <a:srgbClr val="95cdeb"/>
              </a:gs>
              <a:gs pos="100000">
                <a:srgbClr val="2778b1">
                  <a:alpha val="0"/>
                </a:srgbClr>
              </a:gs>
            </a:gsLst>
            <a:lin ang="5400000"/>
          </a:gradFill>
          <a:ln w="25560">
            <a:solidFill>
              <a:srgbClr val="201c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38360" y="220968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55720" y="4113360"/>
            <a:ext cx="787680" cy="1068120"/>
          </a:xfrm>
          <a:custGeom>
            <a:avLst/>
            <a:gdLst>
              <a:gd name="textAreaLeft" fmla="*/ 17640 w 787680"/>
              <a:gd name="textAreaRight" fmla="*/ 770040 w 787680"/>
              <a:gd name="textAreaTop" fmla="*/ 17640 h 1068120"/>
              <a:gd name="textAreaBottom" fmla="*/ 1050480 h 1068120"/>
            </a:gdLst>
            <a:ahLst/>
            <a:rect l="textAreaLeft" t="textAreaTop" r="textAreaRight" b="textAreaBottom"/>
            <a:pathLst>
              <a:path w="21600" h="29287">
                <a:moveTo>
                  <a:pt x="1651" y="0"/>
                </a:moveTo>
                <a:arcTo wR="1651" hR="1651" stAng="16200000" swAng="-5400000"/>
                <a:lnTo>
                  <a:pt x="0" y="27636"/>
                </a:lnTo>
                <a:arcTo wR="1651" hR="1651" stAng="10800000" swAng="-5400000"/>
                <a:lnTo>
                  <a:pt x="19949" y="29287"/>
                </a:lnTo>
                <a:arcTo wR="1651" hR="1651" stAng="5400000" swAng="-5400000"/>
                <a:lnTo>
                  <a:pt x="21600" y="1651"/>
                </a:lnTo>
                <a:arcTo wR="1651" hR="1651" stAng="0" swAng="-5400000"/>
                <a:close/>
              </a:path>
            </a:pathLst>
          </a:custGeom>
          <a:gradFill rotWithShape="0">
            <a:gsLst>
              <a:gs pos="0">
                <a:srgbClr val="2778b1">
                  <a:alpha val="0"/>
                </a:srgbClr>
              </a:gs>
              <a:gs pos="50000">
                <a:srgbClr val="95cdeb"/>
              </a:gs>
              <a:gs pos="100000">
                <a:srgbClr val="2778b1">
                  <a:alpha val="0"/>
                </a:srgbClr>
              </a:gs>
            </a:gsLst>
            <a:lin ang="5400000"/>
          </a:gradFill>
          <a:ln w="25560">
            <a:solidFill>
              <a:srgbClr val="201c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538360" y="445464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90800" y="1787400"/>
            <a:ext cx="785880" cy="1068480"/>
          </a:xfrm>
          <a:custGeom>
            <a:avLst/>
            <a:gdLst>
              <a:gd name="textAreaLeft" fmla="*/ 17280 w 785880"/>
              <a:gd name="textAreaRight" fmla="*/ 768600 w 785880"/>
              <a:gd name="textAreaTop" fmla="*/ 17280 h 1068480"/>
              <a:gd name="textAreaBottom" fmla="*/ 1051200 h 1068480"/>
            </a:gdLst>
            <a:ahLst/>
            <a:rect l="textAreaLeft" t="textAreaTop" r="textAreaRight" b="textAreaBottom"/>
            <a:pathLst>
              <a:path w="21600" h="29364">
                <a:moveTo>
                  <a:pt x="1651" y="0"/>
                </a:moveTo>
                <a:arcTo wR="1651" hR="1651" stAng="16200000" swAng="-5400000"/>
                <a:lnTo>
                  <a:pt x="0" y="27713"/>
                </a:lnTo>
                <a:arcTo wR="1651" hR="1651" stAng="10800000" swAng="-5400000"/>
                <a:lnTo>
                  <a:pt x="19949" y="29364"/>
                </a:lnTo>
                <a:arcTo wR="1651" hR="1651" stAng="5400000" swAng="-5400000"/>
                <a:lnTo>
                  <a:pt x="21600" y="1651"/>
                </a:lnTo>
                <a:arcTo wR="1651" hR="1651" stAng="0" swAng="-5400000"/>
                <a:close/>
              </a:path>
            </a:pathLst>
          </a:custGeom>
          <a:gradFill rotWithShape="0">
            <a:gsLst>
              <a:gs pos="0">
                <a:srgbClr val="2778b1">
                  <a:alpha val="0"/>
                </a:srgbClr>
              </a:gs>
              <a:gs pos="50000">
                <a:srgbClr val="95cdeb"/>
              </a:gs>
              <a:gs pos="100000">
                <a:srgbClr val="2778b1">
                  <a:alpha val="0"/>
                </a:srgbClr>
              </a:gs>
            </a:gsLst>
            <a:lin ang="5400000"/>
          </a:gradFill>
          <a:ln w="25560">
            <a:solidFill>
              <a:srgbClr val="201c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2133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90800" y="4113360"/>
            <a:ext cx="785880" cy="1068120"/>
          </a:xfrm>
          <a:custGeom>
            <a:avLst/>
            <a:gdLst>
              <a:gd name="textAreaLeft" fmla="*/ 17280 w 785880"/>
              <a:gd name="textAreaRight" fmla="*/ 768600 w 785880"/>
              <a:gd name="textAreaTop" fmla="*/ 17280 h 1068120"/>
              <a:gd name="textAreaBottom" fmla="*/ 1050840 h 1068120"/>
            </a:gdLst>
            <a:ahLst/>
            <a:rect l="textAreaLeft" t="textAreaTop" r="textAreaRight" b="textAreaBottom"/>
            <a:pathLst>
              <a:path w="21600" h="29354">
                <a:moveTo>
                  <a:pt x="1651" y="0"/>
                </a:moveTo>
                <a:arcTo wR="1651" hR="1651" stAng="16200000" swAng="-5400000"/>
                <a:lnTo>
                  <a:pt x="0" y="27703"/>
                </a:lnTo>
                <a:arcTo wR="1651" hR="1651" stAng="10800000" swAng="-5400000"/>
                <a:lnTo>
                  <a:pt x="19949" y="29354"/>
                </a:lnTo>
                <a:arcTo wR="1651" hR="1651" stAng="5400000" swAng="-5400000"/>
                <a:lnTo>
                  <a:pt x="21600" y="1651"/>
                </a:lnTo>
                <a:arcTo wR="1651" hR="1651" stAng="0" swAng="-5400000"/>
                <a:close/>
              </a:path>
            </a:pathLst>
          </a:custGeom>
          <a:gradFill rotWithShape="0">
            <a:gsLst>
              <a:gs pos="0">
                <a:srgbClr val="2778b1">
                  <a:alpha val="0"/>
                </a:srgbClr>
              </a:gs>
              <a:gs pos="50000">
                <a:srgbClr val="95cdeb"/>
              </a:gs>
              <a:gs pos="100000">
                <a:srgbClr val="2778b1">
                  <a:alpha val="0"/>
                </a:srgbClr>
              </a:gs>
            </a:gsLst>
            <a:lin ang="5400000"/>
          </a:gradFill>
          <a:ln w="25560">
            <a:solidFill>
              <a:srgbClr val="201c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43671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19840" y="2597040"/>
            <a:ext cx="1103040" cy="1893960"/>
          </a:xfrm>
          <a:custGeom>
            <a:avLst/>
            <a:gdLst>
              <a:gd name="textAreaLeft" fmla="*/ 24480 w 1103040"/>
              <a:gd name="textAreaRight" fmla="*/ 1078560 w 1103040"/>
              <a:gd name="textAreaTop" fmla="*/ 24480 h 1893960"/>
              <a:gd name="textAreaBottom" fmla="*/ 1869480 h 1893960"/>
            </a:gdLst>
            <a:ahLst/>
            <a:rect l="textAreaLeft" t="textAreaTop" r="textAreaRight" b="textAreaBottom"/>
            <a:pathLst>
              <a:path w="21600" h="37083">
                <a:moveTo>
                  <a:pt x="1651" y="0"/>
                </a:moveTo>
                <a:arcTo wR="1651" hR="1651" stAng="16200000" swAng="-5400000"/>
                <a:lnTo>
                  <a:pt x="0" y="35432"/>
                </a:lnTo>
                <a:arcTo wR="1651" hR="1651" stAng="10800000" swAng="-5400000"/>
                <a:lnTo>
                  <a:pt x="19949" y="37083"/>
                </a:lnTo>
                <a:arcTo wR="1651" hR="1651" stAng="5400000" swAng="-5400000"/>
                <a:lnTo>
                  <a:pt x="21600" y="1651"/>
                </a:lnTo>
                <a:arcTo wR="1651" hR="1651" stAng="0" swAng="-5400000"/>
                <a:close/>
              </a:path>
            </a:pathLst>
          </a:custGeom>
          <a:gradFill rotWithShape="0">
            <a:gsLst>
              <a:gs pos="0">
                <a:srgbClr val="2778b1">
                  <a:alpha val="0"/>
                </a:srgbClr>
              </a:gs>
              <a:gs pos="50000">
                <a:srgbClr val="95cdeb"/>
              </a:gs>
              <a:gs pos="100000">
                <a:srgbClr val="2778b1">
                  <a:alpha val="0"/>
                </a:srgbClr>
              </a:gs>
            </a:gsLst>
            <a:lin ang="5400000"/>
          </a:gradFill>
          <a:ln w="25560">
            <a:solidFill>
              <a:srgbClr val="201c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04440" y="335268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54560" y="2316240"/>
            <a:ext cx="33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54560" y="4653000"/>
            <a:ext cx="33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59480" y="3094200"/>
            <a:ext cx="789120" cy="1071360"/>
          </a:xfrm>
          <a:custGeom>
            <a:avLst/>
            <a:gdLst>
              <a:gd name="textAreaLeft" fmla="*/ 17640 w 789120"/>
              <a:gd name="textAreaRight" fmla="*/ 771480 w 789120"/>
              <a:gd name="textAreaTop" fmla="*/ 17640 h 1071360"/>
              <a:gd name="textAreaBottom" fmla="*/ 1053720 h 1071360"/>
            </a:gdLst>
            <a:ahLst/>
            <a:rect l="textAreaLeft" t="textAreaTop" r="textAreaRight" b="textAreaBottom"/>
            <a:pathLst>
              <a:path w="21600" h="29322">
                <a:moveTo>
                  <a:pt x="1651" y="0"/>
                </a:moveTo>
                <a:arcTo wR="1651" hR="1651" stAng="16200000" swAng="-5400000"/>
                <a:lnTo>
                  <a:pt x="0" y="27671"/>
                </a:lnTo>
                <a:arcTo wR="1651" hR="1651" stAng="10800000" swAng="-5400000"/>
                <a:lnTo>
                  <a:pt x="19949" y="29322"/>
                </a:lnTo>
                <a:arcTo wR="1651" hR="1651" stAng="5400000" swAng="-5400000"/>
                <a:lnTo>
                  <a:pt x="21600" y="1651"/>
                </a:lnTo>
                <a:arcTo wR="1651" hR="1651" stAng="0" swAng="-5400000"/>
                <a:close/>
              </a:path>
            </a:pathLst>
          </a:custGeom>
          <a:gradFill rotWithShape="0">
            <a:gsLst>
              <a:gs pos="0">
                <a:srgbClr val="2778b1">
                  <a:alpha val="0"/>
                </a:srgbClr>
              </a:gs>
              <a:gs pos="50000">
                <a:srgbClr val="95cdeb"/>
              </a:gs>
              <a:gs pos="100000">
                <a:srgbClr val="2778b1">
                  <a:alpha val="0"/>
                </a:srgbClr>
              </a:gs>
            </a:gsLst>
            <a:lin ang="5400000"/>
          </a:gradFill>
          <a:ln w="25560">
            <a:solidFill>
              <a:srgbClr val="201c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7120" y="33526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93120" y="3094200"/>
            <a:ext cx="788760" cy="1071360"/>
          </a:xfrm>
          <a:custGeom>
            <a:avLst/>
            <a:gdLst>
              <a:gd name="textAreaLeft" fmla="*/ 17640 w 788760"/>
              <a:gd name="textAreaRight" fmla="*/ 771120 w 788760"/>
              <a:gd name="textAreaTop" fmla="*/ 17640 h 1071360"/>
              <a:gd name="textAreaBottom" fmla="*/ 1053720 h 1071360"/>
            </a:gdLst>
            <a:ahLst/>
            <a:rect l="textAreaLeft" t="textAreaTop" r="textAreaRight" b="textAreaBottom"/>
            <a:pathLst>
              <a:path w="21600" h="29335">
                <a:moveTo>
                  <a:pt x="1651" y="0"/>
                </a:moveTo>
                <a:arcTo wR="1651" hR="1651" stAng="16200000" swAng="-5400000"/>
                <a:lnTo>
                  <a:pt x="0" y="27684"/>
                </a:lnTo>
                <a:arcTo wR="1651" hR="1651" stAng="10800000" swAng="-5400000"/>
                <a:lnTo>
                  <a:pt x="19949" y="29335"/>
                </a:lnTo>
                <a:arcTo wR="1651" hR="1651" stAng="5400000" swAng="-5400000"/>
                <a:lnTo>
                  <a:pt x="21600" y="1651"/>
                </a:lnTo>
                <a:arcTo wR="1651" hR="1651" stAng="0" swAng="-5400000"/>
                <a:close/>
              </a:path>
            </a:pathLst>
          </a:custGeom>
          <a:gradFill rotWithShape="0">
            <a:gsLst>
              <a:gs pos="0">
                <a:srgbClr val="2778b1">
                  <a:alpha val="0"/>
                </a:srgbClr>
              </a:gs>
              <a:gs pos="50000">
                <a:srgbClr val="95cdeb"/>
              </a:gs>
              <a:gs pos="100000">
                <a:srgbClr val="2778b1">
                  <a:alpha val="0"/>
                </a:srgbClr>
              </a:gs>
            </a:gsLst>
            <a:lin ang="5400000"/>
          </a:gradFill>
          <a:ln w="25560">
            <a:solidFill>
              <a:srgbClr val="201c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21920" y="335268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22880" y="363528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56520" y="363528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63680" y="234792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63680" y="4591080"/>
            <a:ext cx="33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86400" y="2228760"/>
            <a:ext cx="43344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586400" y="3593880"/>
            <a:ext cx="433440" cy="10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100240"/>
            <a:ext cx="1654200" cy="496800"/>
          </a:xfrm>
          <a:prstGeom prst="flowChartTerminator">
            <a:avLst/>
          </a:prstGeom>
          <a:gradFill rotWithShape="0">
            <a:gsLst>
              <a:gs pos="0">
                <a:srgbClr val="005ec2"/>
              </a:gs>
              <a:gs pos="50000">
                <a:srgbClr val="0072ea">
                  <a:alpha val="0"/>
                </a:srgbClr>
              </a:gs>
              <a:gs pos="100000">
                <a:srgbClr val="005ec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4340160"/>
            <a:ext cx="1654200" cy="498600"/>
          </a:xfrm>
          <a:prstGeom prst="flowChartTerminator">
            <a:avLst/>
          </a:prstGeom>
          <a:gradFill rotWithShape="0">
            <a:gsLst>
              <a:gs pos="0">
                <a:srgbClr val="005ec2"/>
              </a:gs>
              <a:gs pos="50000">
                <a:srgbClr val="0072ea">
                  <a:alpha val="0"/>
                </a:srgbClr>
              </a:gs>
              <a:gs pos="100000">
                <a:srgbClr val="005ec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3920" y="353520"/>
            <a:ext cx="7743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Nowy model programistyczny – EPN</a:t>
            </a:r>
            <a:br>
              <a:rPr sz="3200"/>
            </a:br>
            <a:r>
              <a:rPr b="0" lang="pl-PL" sz="2000" spc="-1" strike="noStrike">
                <a:solidFill>
                  <a:srgbClr val="ff0029"/>
                </a:solidFill>
                <a:latin typeface="Arial"/>
              </a:rPr>
              <a:t>EPN = Event Processing Network</a:t>
            </a:r>
            <a:endParaRPr b="0" lang="en-US" sz="20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73480" y="4780080"/>
            <a:ext cx="1067040" cy="914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50000">
                <a:srgbClr val="00ccff"/>
              </a:gs>
              <a:gs pos="100000">
                <a:srgbClr val="fefefe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5591160" y="449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99040" y="508176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ules (qu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066680" y="2363760"/>
            <a:ext cx="216000" cy="40226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2073240" y="2363760"/>
            <a:ext cx="216000" cy="40226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084720" y="2363760"/>
            <a:ext cx="216000" cy="4022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>
            <a:off x="5076720" y="2363760"/>
            <a:ext cx="216000" cy="4032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5"/>
          <a:stretch/>
        </p:blipFill>
        <p:spPr>
          <a:xfrm>
            <a:off x="3079800" y="2363760"/>
            <a:ext cx="216000" cy="4022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6"/>
          <a:stretch/>
        </p:blipFill>
        <p:spPr>
          <a:xfrm>
            <a:off x="4087800" y="2363760"/>
            <a:ext cx="198360" cy="40226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6305400" y="2876400"/>
            <a:ext cx="819360" cy="714600"/>
          </a:xfrm>
          <a:custGeom>
            <a:avLst/>
            <a:gdLst/>
            <a:ahLst/>
            <a:rect l="l" t="t" r="r" b="b"/>
            <a:pathLst>
              <a:path w="516" h="462">
                <a:moveTo>
                  <a:pt x="516" y="0"/>
                </a:moveTo>
                <a:lnTo>
                  <a:pt x="516" y="462"/>
                </a:lnTo>
                <a:lnTo>
                  <a:pt x="0" y="462"/>
                </a:lnTo>
              </a:path>
            </a:pathLst>
          </a:custGeom>
          <a:noFill/>
          <a:ln w="3168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81640" y="2876400"/>
            <a:ext cx="1438200" cy="495360"/>
          </a:xfrm>
          <a:custGeom>
            <a:avLst/>
            <a:gdLst/>
            <a:ahLst/>
            <a:rect l="l" t="t" r="r" b="b"/>
            <a:pathLst>
              <a:path w="960" h="282">
                <a:moveTo>
                  <a:pt x="960" y="0"/>
                </a:moveTo>
                <a:lnTo>
                  <a:pt x="960" y="282"/>
                </a:lnTo>
                <a:lnTo>
                  <a:pt x="0" y="282"/>
                </a:lnTo>
              </a:path>
            </a:pathLst>
          </a:custGeom>
          <a:noFill/>
          <a:ln w="3168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81000" y="2343240"/>
            <a:ext cx="54198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00320" y="2247840"/>
            <a:ext cx="333360" cy="628560"/>
          </a:xfrm>
          <a:custGeom>
            <a:avLst/>
            <a:gdLst/>
            <a:ahLst/>
            <a:rect l="l" t="t" r="r" b="b"/>
            <a:pathLst>
              <a:path w="210" h="264">
                <a:moveTo>
                  <a:pt x="210" y="0"/>
                </a:moveTo>
                <a:lnTo>
                  <a:pt x="210" y="264"/>
                </a:lnTo>
                <a:lnTo>
                  <a:pt x="0" y="264"/>
                </a:lnTo>
              </a:path>
            </a:pathLst>
          </a:custGeom>
          <a:noFill/>
          <a:ln w="3168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847960" y="2247840"/>
            <a:ext cx="333360" cy="628560"/>
          </a:xfrm>
          <a:custGeom>
            <a:avLst/>
            <a:gdLst/>
            <a:ahLst/>
            <a:rect l="l" t="t" r="r" b="b"/>
            <a:pathLst>
              <a:path w="210" h="264">
                <a:moveTo>
                  <a:pt x="210" y="0"/>
                </a:moveTo>
                <a:lnTo>
                  <a:pt x="210" y="264"/>
                </a:lnTo>
                <a:lnTo>
                  <a:pt x="0" y="264"/>
                </a:lnTo>
              </a:path>
            </a:pathLst>
          </a:custGeom>
          <a:noFill/>
          <a:ln w="3168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77120" y="1143000"/>
            <a:ext cx="2224080" cy="1797480"/>
          </a:xfrm>
          <a:prstGeom prst="rect">
            <a:avLst/>
          </a:prstGeom>
          <a:solidFill>
            <a:srgbClr val="bdbbf0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ybkozmienne zdar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formacje rynk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mówi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Źródła news’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12680" y="3371760"/>
            <a:ext cx="330480" cy="1733760"/>
          </a:xfrm>
          <a:custGeom>
            <a:avLst/>
            <a:gdLst>
              <a:gd name="textAreaLeft" fmla="*/ 15840 w 330480"/>
              <a:gd name="textAreaRight" fmla="*/ 314640 w 330480"/>
              <a:gd name="textAreaTop" fmla="*/ 15840 h 1733760"/>
              <a:gd name="textAreaBottom" fmla="*/ 1717920 h 1733760"/>
            </a:gdLst>
            <a:ahLst/>
            <a:rect l="textAreaLeft" t="textAreaTop" r="textAreaRight" b="textAreaBottom"/>
            <a:pathLst>
              <a:path w="21600" h="113218">
                <a:moveTo>
                  <a:pt x="3600" y="0"/>
                </a:moveTo>
                <a:arcTo wR="3600" hR="3600" stAng="16200000" swAng="-5400000"/>
                <a:lnTo>
                  <a:pt x="0" y="109618"/>
                </a:lnTo>
                <a:arcTo wR="3600" hR="3600" stAng="10800000" swAng="-5400000"/>
                <a:lnTo>
                  <a:pt x="18000" y="1132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2ea">
              <a:alpha val="50000"/>
            </a:srgbClr>
          </a:solidFill>
          <a:ln w="38160">
            <a:solidFill>
              <a:srgbClr val="0072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81000" y="5676840"/>
            <a:ext cx="2400480" cy="314280"/>
          </a:xfrm>
          <a:prstGeom prst="roundRect">
            <a:avLst>
              <a:gd name="adj" fmla="val 16667"/>
            </a:avLst>
          </a:prstGeom>
          <a:solidFill>
            <a:srgbClr val="0072ea">
              <a:alpha val="50000"/>
            </a:srgbClr>
          </a:solidFill>
          <a:ln w="38160">
            <a:solidFill>
              <a:srgbClr val="0072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3271680" y="3852720"/>
            <a:ext cx="800280" cy="1666800"/>
          </a:xfrm>
          <a:custGeom>
            <a:avLst/>
            <a:gdLst>
              <a:gd name="textAreaLeft" fmla="*/ 0 w 800280"/>
              <a:gd name="textAreaRight" fmla="*/ 800640 w 800280"/>
              <a:gd name="textAreaTop" fmla="*/ 149400 h 1666800"/>
              <a:gd name="textAreaBottom" fmla="*/ 1517400 h 1666800"/>
            </a:gdLst>
            <a:ahLst/>
            <a:rect l="textAreaLeft" t="textAreaTop" r="textAreaRight" b="textAreaBottom"/>
            <a:pathLst>
              <a:path w="21600" h="21600">
                <a:moveTo>
                  <a:pt x="0" y="969"/>
                </a:moveTo>
                <a:cubicBezTo>
                  <a:pt x="7200" y="-2464"/>
                  <a:pt x="14400" y="4402"/>
                  <a:pt x="21600" y="969"/>
                </a:cubicBezTo>
                <a:lnTo>
                  <a:pt x="21600" y="20631"/>
                </a:lnTo>
                <a:cubicBezTo>
                  <a:pt x="14400" y="24064"/>
                  <a:pt x="7200" y="17198"/>
                  <a:pt x="0" y="20631"/>
                </a:cubicBezTo>
                <a:close/>
              </a:path>
            </a:pathLst>
          </a:custGeom>
          <a:solidFill>
            <a:srgbClr val="0072ea">
              <a:alpha val="50000"/>
            </a:srgbClr>
          </a:solidFill>
          <a:ln w="38160">
            <a:solidFill>
              <a:srgbClr val="0072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6340320" y="3830760"/>
            <a:ext cx="928800" cy="2528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5022720" y="2238480"/>
            <a:ext cx="330480" cy="3743280"/>
          </a:xfrm>
          <a:custGeom>
            <a:avLst/>
            <a:gdLst>
              <a:gd name="textAreaLeft" fmla="*/ 15840 w 330480"/>
              <a:gd name="textAreaRight" fmla="*/ 314640 w 330480"/>
              <a:gd name="textAreaTop" fmla="*/ 15840 h 3743280"/>
              <a:gd name="textAreaBottom" fmla="*/ 3727440 h 3743280"/>
            </a:gdLst>
            <a:ahLst/>
            <a:rect l="textAreaLeft" t="textAreaTop" r="textAreaRight" b="textAreaBottom"/>
            <a:pathLst>
              <a:path w="21600" h="244416">
                <a:moveTo>
                  <a:pt x="3600" y="0"/>
                </a:moveTo>
                <a:arcTo wR="3600" hR="3600" stAng="16200000" swAng="-5400000"/>
                <a:lnTo>
                  <a:pt x="0" y="240816"/>
                </a:lnTo>
                <a:arcTo wR="3600" hR="3600" stAng="10800000" swAng="-5400000"/>
                <a:lnTo>
                  <a:pt x="18000" y="244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>
              <a:alpha val="25000"/>
            </a:srgbClr>
          </a:solidFill>
          <a:ln w="38160">
            <a:solidFill>
              <a:srgbClr val="bdb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2720" y="3486240"/>
            <a:ext cx="330480" cy="2504880"/>
          </a:xfrm>
          <a:custGeom>
            <a:avLst/>
            <a:gdLst>
              <a:gd name="textAreaLeft" fmla="*/ 15840 w 330480"/>
              <a:gd name="textAreaRight" fmla="*/ 314640 w 330480"/>
              <a:gd name="textAreaTop" fmla="*/ 15840 h 2504880"/>
              <a:gd name="textAreaBottom" fmla="*/ 2489040 h 2504880"/>
            </a:gdLst>
            <a:ahLst/>
            <a:rect l="textAreaLeft" t="textAreaTop" r="textAreaRight" b="textAreaBottom"/>
            <a:pathLst>
              <a:path w="21600" h="163563">
                <a:moveTo>
                  <a:pt x="3600" y="0"/>
                </a:moveTo>
                <a:arcTo wR="3600" hR="3600" stAng="16200000" swAng="-5400000"/>
                <a:lnTo>
                  <a:pt x="0" y="159963"/>
                </a:lnTo>
                <a:arcTo wR="3600" hR="3600" stAng="10800000" swAng="-5400000"/>
                <a:lnTo>
                  <a:pt x="18000" y="1635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>
              <a:alpha val="25000"/>
            </a:srgbClr>
          </a:solidFill>
          <a:ln w="38160">
            <a:solidFill>
              <a:srgbClr val="bdb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22720" y="4610160"/>
            <a:ext cx="330480" cy="1380960"/>
          </a:xfrm>
          <a:custGeom>
            <a:avLst/>
            <a:gdLst>
              <a:gd name="textAreaLeft" fmla="*/ 15840 w 330480"/>
              <a:gd name="textAreaRight" fmla="*/ 314640 w 330480"/>
              <a:gd name="textAreaTop" fmla="*/ 15840 h 1380960"/>
              <a:gd name="textAreaBottom" fmla="*/ 1365120 h 1380960"/>
            </a:gdLst>
            <a:ahLst/>
            <a:rect l="textAreaLeft" t="textAreaTop" r="textAreaRight" b="textAreaBottom"/>
            <a:pathLst>
              <a:path w="21600" h="90184">
                <a:moveTo>
                  <a:pt x="3600" y="0"/>
                </a:moveTo>
                <a:arcTo wR="3600" hR="3600" stAng="16200000" swAng="-5400000"/>
                <a:lnTo>
                  <a:pt x="0" y="86584"/>
                </a:lnTo>
                <a:arcTo wR="3600" hR="3600" stAng="10800000" swAng="-5400000"/>
                <a:lnTo>
                  <a:pt x="18000" y="901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>
              <a:alpha val="25000"/>
            </a:srgbClr>
          </a:solidFill>
          <a:ln w="38160">
            <a:solidFill>
              <a:srgbClr val="bdb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5516640"/>
            <a:ext cx="129564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2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rel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36680" y="4108320"/>
            <a:ext cx="14904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2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greg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4325760"/>
            <a:ext cx="19810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2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czynowoś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71800" y="3930480"/>
            <a:ext cx="152388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2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łożone, stale wykonywane zapyt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99000" y="5027760"/>
            <a:ext cx="116532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bdb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kna czasowe, ilości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22440" y="1919160"/>
            <a:ext cx="2531880" cy="580680"/>
          </a:xfrm>
          <a:prstGeom prst="rect">
            <a:avLst/>
          </a:prstGeom>
          <a:solidFill>
            <a:srgbClr val="bdbbf0"/>
          </a:solidFill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rumienie zdarzeń w czasie rzeczywist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Funkcje ESP/CEP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74396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Język EPL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0440" y="990360"/>
            <a:ext cx="86486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9720" indent="-18972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nane z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142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.ORDER BY..GROUP BY..HAV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142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NER… LEFT/RIGHT/FULL OUTER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142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SERT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zwy strumieni zdarzeń zamiast tabel w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142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symbol, price FROM StockTick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80000"/>
              </a:lnSpc>
              <a:spcBef>
                <a:spcPts val="499"/>
              </a:spcBef>
              <a:spcAft>
                <a:spcPts val="400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szerzenia ESP/C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142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– określa okno (wycinek) w danym strumieniu zdarze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-147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SzPct val="10410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na czasowe (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-base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i ilościowe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-base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-147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SzPct val="104103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na płynące (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ding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i skaczą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ch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-147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SzPct val="104103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darzenia przychodzące (ISTREAM) i wychodzące (RSTREAM) z ok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142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ING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– wyłapywanie wzorców wśród zdarze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-147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SzPct val="104103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– sekwencje zdarzeń (A-&gt;B-&gt;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-147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SzPct val="104103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– brak wystąpienia zdar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-147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SzPct val="104103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– limit czasowy wz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6960" indent="-142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– kontrola szybkości „wyrzucania” zdarzeń z ok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720" indent="-189720">
              <a:lnSpc>
                <a:spcPct val="90000"/>
              </a:lnSpc>
              <a:spcBef>
                <a:spcPts val="499"/>
              </a:spcBef>
              <a:spcAft>
                <a:spcPts val="400"/>
              </a:spcAft>
              <a:buSzPct val="1131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e łączenie z danymi statycznymi (np. w RDB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Przykład EPL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1828800"/>
            <a:ext cx="8763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pytani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: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ena akcji (dla danego symbolu) rośnie lub maleje o 2% dla ostatnich 2 notowań (w czasie rzeczywisty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Symbol, LastPrice, perc(LastPrice) as percentag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StockTick RETAIN 2 EVENTS IF Symbol='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ING perc(LastPrice) &gt; 2.0 or perc(LastPrice) &lt; -2.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pytani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: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ena akcji (dla danego symbolu) dla ostatnich 5 notowań układa się w trend rosnący (jako trend traktujemy min. 3 kolejne wzrosty c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Symbol, LastPrice, trend(LastPrice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StockTick RETAIN 5 IF Symbol='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ING trend(LastPrice) &gt;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Przykład MATCHING … EVERY …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639720" y="1114560"/>
            <a:ext cx="7894800" cy="543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7648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Inny model programowania !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98520" y="1322280"/>
            <a:ext cx="7758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plikacja = sieć przetwarzająca złożone zdarze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2960" indent="-15408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ieć współpracujących dostawców i konsumentów zdar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4440" indent="-159840">
              <a:lnSpc>
                <a:spcPts val="1998"/>
              </a:lnSpc>
              <a:spcBef>
                <a:spcPts val="788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PN – Event Processing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2960" indent="-15408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ęzły tej sieci (stag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4440" indent="-159840">
              <a:lnSpc>
                <a:spcPts val="1998"/>
              </a:lnSpc>
              <a:spcBef>
                <a:spcPts val="788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ług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dap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tream,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4440" indent="-159840">
              <a:lnSpc>
                <a:spcPts val="1998"/>
              </a:lnSpc>
              <a:spcBef>
                <a:spcPts val="788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iekty bizneso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OJO (Spring Be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4440" indent="-159840">
              <a:lnSpc>
                <a:spcPts val="1998"/>
              </a:lnSpc>
              <a:spcBef>
                <a:spcPts val="788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darze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OJ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eklaratywne składanie sieci i konfiguracja oparta o Sp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2960" indent="-15408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ik(i) konfiguracyjne Spring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2960" indent="-15408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łasne znaczniki (tagi) dla usług WLEvS (Spring ta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2960" indent="-15408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trzeliwanie zależności dla dodatkowych usług (Spring, Spring-DM, OSG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2960" indent="-15408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Łatwa integracja z innymi technologiami (poprzez Spring i OSG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3520" y="3886200"/>
            <a:ext cx="76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38360" y="2514240"/>
            <a:ext cx="7743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DEMO</a:t>
            </a:r>
            <a:br>
              <a:rPr sz="3200"/>
            </a:b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APLIKACJI ZDARZENIOWEJ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Demo WLEvS –Hello World !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162080" y="1050840"/>
            <a:ext cx="6837480" cy="144792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8440" y="2773080"/>
            <a:ext cx="85266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57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kcja (logika biznesow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57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opcjonalnie) Definicja zda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57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opcjonalnie)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57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PN –Spring kontekst (plik/i konfiguracyjny) w META-INF\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57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figuracja elementów (plik/i konfiguracyjneWLEvS) w META-INF\wle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plikacja jest OSGi bun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57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 Spring-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3040" indent="-157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enerem jest BEA WLEvS (oparty o Eclipse Equin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561960" y="2565360"/>
            <a:ext cx="2668680" cy="248760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76440" y="2576520"/>
            <a:ext cx="1781280" cy="1843200"/>
          </a:xfrm>
          <a:prstGeom prst="flowChartAlternateProcess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ring-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79600" y="5172120"/>
            <a:ext cx="8183520" cy="695160"/>
          </a:xfrm>
          <a:prstGeom prst="flowChartAlternateProcess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72480" y="2590920"/>
            <a:ext cx="1782720" cy="2466720"/>
          </a:xfrm>
          <a:prstGeom prst="flowChartAlternateProcess">
            <a:avLst/>
          </a:prstGeom>
          <a:gradFill rotWithShape="0">
            <a:gsLst>
              <a:gs pos="0">
                <a:srgbClr val="ff002a"/>
              </a:gs>
              <a:gs pos="100000">
                <a:srgbClr val="750013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BE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18040" y="2557440"/>
            <a:ext cx="3684240" cy="96696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LEvS Spring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 rozszer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67160" y="3603600"/>
            <a:ext cx="2535120" cy="693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D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359240" y="4390920"/>
            <a:ext cx="2535120" cy="693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D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1447920"/>
            <a:ext cx="8229600" cy="966600"/>
          </a:xfrm>
          <a:prstGeom prst="flowChartAlternateProcess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Aplikacje zdarzeni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(POJO + XML + EQ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WLEvS Architektura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38360" y="2514240"/>
            <a:ext cx="7743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DEMO</a:t>
            </a:r>
            <a:br>
              <a:rPr sz="3200"/>
            </a:b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BUDOWA APLIKACJI ZDARZENIOWEJ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800" y="1294920"/>
            <a:ext cx="804384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72600" indent="-37260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3641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zetwarzanie zdarzeniow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3049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ecyfika przetwarzania strumieniowego i złożo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3641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laczego teraz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3641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darzeniowy serwer aplikacyj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3641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odel programisty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3641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Język zapyta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3641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Clr>
                <a:srgbClr val="3641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datkowe tema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3049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Clr>
                <a:srgbClr val="ff002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-time w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3049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Clr>
                <a:srgbClr val="ff002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D i 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3049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Clr>
                <a:srgbClr val="ff002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600" indent="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Q&amp;A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Inne tematy</a:t>
            </a:r>
            <a:br>
              <a:rPr sz="3200"/>
            </a:br>
            <a:r>
              <a:rPr b="0" lang="pl-PL" sz="2000" spc="-1" strike="noStrike">
                <a:solidFill>
                  <a:srgbClr val="ff0029"/>
                </a:solidFill>
                <a:latin typeface="Arial"/>
              </a:rPr>
              <a:t>skoro je poruszamy, to znaczy, że starczyło nam czasu </a:t>
            </a:r>
            <a:r>
              <a:rPr b="0" lang="pl-PL" sz="2000" spc="-1" strike="noStrike">
                <a:solidFill>
                  <a:srgbClr val="ff002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8800" y="1560600"/>
            <a:ext cx="82980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5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Trochę o wydajności i aspektach real-time w Java (w kontekście przetwarzania zdarzeniowe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25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hite Paper (PDF): Benchmark WLEvS (http://www.bea.com/event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25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dzie szukać dodatkowych informacji, w tym projekty open-source związane z przetwarzaniem zdarzeniowy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25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SPER (http://esper.codehaus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25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zego oczekiwać w krótkiej przyszłości od zdarzeniowych serwerów aplikacyjnych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25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kosystem ESP i CEP (czyli jakie inne komponenty architektury zdarzeniowej warto uwzględnia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4000" indent="-167760">
              <a:lnSpc>
                <a:spcPct val="125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.in. o korzyściach z połączenia koncepcji EDA i 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Java Garbage Collection i aplikacje RT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4114800" y="2095560"/>
            <a:ext cx="4495680" cy="30560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836640" y="1881360"/>
            <a:ext cx="2592360" cy="17618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77800" y="3792600"/>
            <a:ext cx="314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72ea"/>
                </a:solidFill>
                <a:latin typeface="Arial"/>
                <a:ea typeface="ＭＳ Ｐゴシック"/>
              </a:rPr>
              <a:t>Garbage Collection nie jest deterministycz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00200" y="2119320"/>
            <a:ext cx="1650960" cy="679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838080" y="4572000"/>
            <a:ext cx="2667240" cy="1752480"/>
            <a:chOff x="838080" y="4572000"/>
            <a:chExt cx="2667240" cy="1752480"/>
          </a:xfrm>
        </p:grpSpPr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838080" y="4572000"/>
              <a:ext cx="2667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1075320" y="4645800"/>
              <a:ext cx="2015640" cy="906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438120" y="140508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2a"/>
                </a:solidFill>
                <a:latin typeface="Arial"/>
                <a:ea typeface="ＭＳ Ｐゴシック"/>
              </a:rPr>
              <a:t>Tradycyjna </a:t>
            </a:r>
            <a:r>
              <a:rPr b="0" lang="en-US" sz="2400" spc="-1" strike="noStrike">
                <a:solidFill>
                  <a:srgbClr val="ff002a"/>
                </a:solidFill>
                <a:latin typeface="Arial"/>
                <a:ea typeface="ＭＳ Ｐゴシック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91120" y="4097160"/>
            <a:ext cx="3962160" cy="679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11560" y="5127120"/>
            <a:ext cx="4530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72ea"/>
                </a:solidFill>
                <a:latin typeface="Arial"/>
                <a:ea typeface="ＭＳ Ｐゴシック"/>
              </a:rPr>
              <a:t>Gwarantowane </a:t>
            </a:r>
            <a:r>
              <a:rPr b="0" lang="pl-PL" sz="1600" spc="-1" strike="noStrike">
                <a:solidFill>
                  <a:srgbClr val="0072ea"/>
                </a:solidFill>
                <a:latin typeface="Arial"/>
              </a:rPr>
              <a:t>maksymalne czasy 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72ea"/>
                </a:solidFill>
                <a:latin typeface="Arial"/>
              </a:rPr>
              <a:t>Soft-real time: 1-5 ms (pocz. 2008)</a:t>
            </a:r>
            <a:r>
              <a:rPr b="0" lang="pl-PL" sz="1600" spc="-1" strike="noStrike">
                <a:solidFill>
                  <a:srgbClr val="0072ea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0" y="163368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2a"/>
                </a:solidFill>
                <a:latin typeface="Arial"/>
              </a:rPr>
              <a:t>Deterministyczny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Terminologia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8440" y="1560600"/>
            <a:ext cx="3945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72ea"/>
                </a:solidFill>
                <a:latin typeface="Arial"/>
              </a:rPr>
              <a:t>Opóźnienia (Latenc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4680" indent="-49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dpowiedzi opera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4680" indent="-49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kład: 30 ms (dla żądania nr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2a"/>
                </a:solidFill>
                <a:latin typeface="Arial"/>
              </a:rPr>
              <a:t>Przepustowość (Throughpu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4680" indent="-49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iczba transakcji obsłużonych w jednostce czasu (żądania / cz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4680" indent="-49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tokowość i równoległość mają wpływ na przepustowoś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ts val="2299"/>
              </a:lnSpc>
              <a:spcBef>
                <a:spcPts val="499"/>
              </a:spcBef>
              <a:spcAft>
                <a:spcPts val="400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b646b8"/>
                </a:solidFill>
                <a:latin typeface="Arial"/>
              </a:rPr>
              <a:t>Rozrzut (</a:t>
            </a:r>
            <a:r>
              <a:rPr b="0" lang="en-US" sz="2000" spc="-1" strike="noStrike">
                <a:solidFill>
                  <a:srgbClr val="b646b8"/>
                </a:solidFill>
                <a:latin typeface="Arial"/>
              </a:rPr>
              <a:t>Jitter</a:t>
            </a:r>
            <a:r>
              <a:rPr b="0" lang="pl-PL" sz="2000" spc="-1" strike="noStrike">
                <a:solidFill>
                  <a:srgbClr val="b646b8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4680" indent="-49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óżnice w poziomie opóźnienia – miara determiniz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4680" indent="-49320">
              <a:lnSpc>
                <a:spcPts val="2299"/>
              </a:lnSpc>
              <a:spcBef>
                <a:spcPts val="400"/>
              </a:spcBef>
              <a:spcAft>
                <a:spcPts val="4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kład: wzrost o 40 ms między żądaniem 6 i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4343400" y="1692360"/>
          <a:ext cx="4089240" cy="4395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43400" y="1692360"/>
                    <a:ext cx="4089240" cy="43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6308640" y="4297320"/>
            <a:ext cx="0" cy="1189080"/>
          </a:xfrm>
          <a:prstGeom prst="line">
            <a:avLst/>
          </a:prstGeom>
          <a:ln w="28440">
            <a:solidFill>
              <a:srgbClr val="0072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307560" y="47196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2ea"/>
                </a:solidFill>
                <a:latin typeface="Arial"/>
                <a:ea typeface="ＭＳ Ｐゴシック"/>
              </a:rPr>
              <a:t>Lat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675480" y="2514600"/>
            <a:ext cx="0" cy="1554120"/>
          </a:xfrm>
          <a:prstGeom prst="line">
            <a:avLst/>
          </a:prstGeom>
          <a:ln w="28440">
            <a:solidFill>
              <a:srgbClr val="b646b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73320" y="298296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646b8"/>
                </a:solidFill>
                <a:latin typeface="Arial"/>
                <a:ea typeface="ＭＳ Ｐゴシック"/>
              </a:rPr>
              <a:t>J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Analiza opóźnień (latency)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28600" y="1184400"/>
            <a:ext cx="8610480" cy="529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2320" y="455760"/>
            <a:ext cx="830412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29"/>
                </a:solidFill>
                <a:latin typeface="Arial"/>
              </a:rPr>
              <a:t>EDA</a:t>
            </a: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 uzupełnia SOA</a:t>
            </a:r>
            <a:br>
              <a:rPr sz="3200"/>
            </a:br>
            <a:r>
              <a:rPr b="0" lang="pl-PL" sz="2000" spc="-1" strike="noStrike">
                <a:solidFill>
                  <a:srgbClr val="ff0029"/>
                </a:solidFill>
                <a:latin typeface="Arial"/>
              </a:rPr>
              <a:t>tzn. Event-Driven Architecture„używa” Service Oriented Architecture i vice-versa</a:t>
            </a:r>
            <a:endParaRPr b="0" lang="en-US" sz="20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340000" y="1901880"/>
            <a:ext cx="4468680" cy="411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600440" y="1898640"/>
            <a:ext cx="9720" cy="412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3440" y="2968560"/>
            <a:ext cx="184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źno powiąz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91000" y="3106800"/>
            <a:ext cx="175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owiąz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73440" y="4416480"/>
            <a:ext cx="184284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Interak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Arial"/>
              </a:rPr>
              <a:t>(request/respon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43280" y="4416480"/>
            <a:ext cx="184320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399"/>
                </a:solidFill>
                <a:latin typeface="Arial"/>
              </a:rPr>
              <a:t>Notyfik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Arial"/>
              </a:rPr>
              <a:t>(sense/re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648480" y="5759280"/>
            <a:ext cx="85716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8456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ED-SOA – przykład idei połączenia ED i SOA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3480" y="984240"/>
            <a:ext cx="9110520" cy="549288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5791320" y="3885840"/>
            <a:ext cx="3124080" cy="2166120"/>
            <a:chOff x="5791320" y="3885840"/>
            <a:chExt cx="3124080" cy="2166120"/>
          </a:xfrm>
        </p:grpSpPr>
        <p:sp>
          <p:nvSpPr>
            <p:cNvPr id="533" name=""/>
            <p:cNvSpPr/>
            <p:nvPr/>
          </p:nvSpPr>
          <p:spPr>
            <a:xfrm flipH="1" flipV="1">
              <a:off x="6019560" y="4419720"/>
              <a:ext cx="685800" cy="914400"/>
            </a:xfrm>
            <a:prstGeom prst="line">
              <a:avLst/>
            </a:prstGeom>
            <a:ln w="57240">
              <a:solidFill>
                <a:srgbClr val="ff002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05720" y="5105520"/>
              <a:ext cx="2209680" cy="9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 i procesy są wywoływane, gdy pojawią się określone zdarzeni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5791320" y="4876560"/>
              <a:ext cx="914400" cy="609480"/>
            </a:xfrm>
            <a:prstGeom prst="line">
              <a:avLst/>
            </a:prstGeom>
            <a:ln w="57240">
              <a:solidFill>
                <a:srgbClr val="ff002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8305920" y="3885840"/>
              <a:ext cx="228600" cy="1219320"/>
            </a:xfrm>
            <a:prstGeom prst="line">
              <a:avLst/>
            </a:prstGeom>
            <a:ln w="57240">
              <a:solidFill>
                <a:srgbClr val="ff002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85440" y="5181480"/>
            <a:ext cx="2819880" cy="1358640"/>
            <a:chOff x="685440" y="5181480"/>
            <a:chExt cx="2819880" cy="1358640"/>
          </a:xfrm>
        </p:grpSpPr>
        <p:sp>
          <p:nvSpPr>
            <p:cNvPr id="538" name=""/>
            <p:cNvSpPr/>
            <p:nvPr/>
          </p:nvSpPr>
          <p:spPr>
            <a:xfrm flipH="1" flipV="1">
              <a:off x="685440" y="5181480"/>
              <a:ext cx="609480" cy="990720"/>
            </a:xfrm>
            <a:prstGeom prst="line">
              <a:avLst/>
            </a:prstGeom>
            <a:ln w="57240">
              <a:solidFill>
                <a:srgbClr val="ff002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95280" y="6019920"/>
              <a:ext cx="221004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 i procesy generują zdarze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971440" y="2057400"/>
            <a:ext cx="52578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zięki </a:t>
            </a:r>
            <a:r>
              <a:rPr b="0" lang="pl-P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3200"/>
            </a:br>
            <a:br>
              <a:rPr sz="32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aldek Kot</a:t>
            </a:r>
            <a:br>
              <a:rPr sz="20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pl-PL" sz="1600" spc="-1" strike="noStrike" u="sng">
                <a:solidFill>
                  <a:srgbClr val="20c31e"/>
                </a:solidFill>
                <a:uFillTx/>
                <a:latin typeface="Arial"/>
                <a:hlinkClick r:id="rId1"/>
              </a:rPr>
              <a:t>waldemar_kot@yahoo.com_x000b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5760"/>
            <a:ext cx="853308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Różne poziomy przetwarzania zdarzeniowego</a:t>
            </a:r>
            <a:br>
              <a:rPr sz="3200"/>
            </a:br>
            <a:r>
              <a:rPr b="0" lang="pl-PL" sz="1800" spc="-1" strike="noStrike">
                <a:solidFill>
                  <a:srgbClr val="ff0029"/>
                </a:solidFill>
                <a:latin typeface="Arial"/>
              </a:rPr>
              <a:t>Gartner</a:t>
            </a:r>
            <a:endParaRPr b="0" lang="en-US" sz="1800" spc="-1" strike="noStrike">
              <a:solidFill>
                <a:srgbClr val="ff0029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6280" y="3424320"/>
            <a:ext cx="8674200" cy="1503360"/>
            <a:chOff x="206280" y="3424320"/>
            <a:chExt cx="8674200" cy="1503360"/>
          </a:xfrm>
        </p:grpSpPr>
        <p:sp>
          <p:nvSpPr>
            <p:cNvPr id="92" name=""/>
            <p:cNvSpPr/>
            <p:nvPr/>
          </p:nvSpPr>
          <p:spPr>
            <a:xfrm>
              <a:off x="206280" y="4927680"/>
              <a:ext cx="8651880" cy="0"/>
            </a:xfrm>
            <a:prstGeom prst="line">
              <a:avLst/>
            </a:prstGeom>
            <a:ln w="19080">
              <a:solidFill>
                <a:srgbClr val="b3b3b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3657600"/>
              <a:ext cx="1482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Basic Event Medi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88640" y="4403880"/>
              <a:ext cx="30715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orm, Route on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32320" y="3424320"/>
              <a:ext cx="20574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Broker</a:t>
              </a:r>
              <a:r>
                <a:rPr b="0" lang="pl-PL" sz="1800" spc="-1" strike="noStrike">
                  <a:solidFill>
                    <a:srgbClr val="003399"/>
                  </a:solidFill>
                  <a:latin typeface="Arial"/>
                </a:rPr>
                <a:t>, ES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89200" y="3957480"/>
              <a:ext cx="1621080" cy="16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911760" y="3753000"/>
              <a:ext cx="936360" cy="395280"/>
              <a:chOff x="3911760" y="3753000"/>
              <a:chExt cx="936360" cy="395280"/>
            </a:xfrm>
          </p:grpSpPr>
          <p:sp>
            <p:nvSpPr>
              <p:cNvPr id="98" name=""/>
              <p:cNvSpPr/>
              <p:nvPr/>
            </p:nvSpPr>
            <p:spPr>
              <a:xfrm>
                <a:off x="3911760" y="3753000"/>
                <a:ext cx="936360" cy="395280"/>
              </a:xfrm>
              <a:prstGeom prst="flowChartInputOutpu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76640" y="3819600"/>
                <a:ext cx="584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v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5159520" y="3745080"/>
              <a:ext cx="1498320" cy="444240"/>
            </a:xfrm>
            <a:prstGeom prst="flowChartDecision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51480" y="3782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o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991640" y="3633840"/>
              <a:ext cx="88884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91640" y="4014720"/>
              <a:ext cx="888840" cy="54612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5480" y="4064040"/>
              <a:ext cx="1559160" cy="23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440400" y="3724200"/>
              <a:ext cx="1569960" cy="155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892920" y="3543480"/>
              <a:ext cx="936360" cy="395280"/>
              <a:chOff x="6892920" y="3543480"/>
              <a:chExt cx="936360" cy="395280"/>
            </a:xfrm>
          </p:grpSpPr>
          <p:sp>
            <p:nvSpPr>
              <p:cNvPr id="107" name=""/>
              <p:cNvSpPr/>
              <p:nvPr/>
            </p:nvSpPr>
            <p:spPr>
              <a:xfrm>
                <a:off x="6892920" y="3543480"/>
                <a:ext cx="936360" cy="395280"/>
              </a:xfrm>
              <a:prstGeom prst="flowChartInputOutpu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57800" y="3610080"/>
                <a:ext cx="584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v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V="1">
              <a:off x="2727360" y="3814920"/>
              <a:ext cx="888840" cy="304560"/>
            </a:xfrm>
            <a:prstGeom prst="rect">
              <a:avLst/>
            </a:prstGeom>
            <a:solidFill>
              <a:srgbClr val="20c31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5267160"/>
            <a:ext cx="8016840" cy="1082880"/>
            <a:chOff x="457200" y="5267160"/>
            <a:chExt cx="8016840" cy="1082880"/>
          </a:xfrm>
        </p:grpSpPr>
        <p:sp>
          <p:nvSpPr>
            <p:cNvPr id="111" name=""/>
            <p:cNvSpPr/>
            <p:nvPr/>
          </p:nvSpPr>
          <p:spPr>
            <a:xfrm>
              <a:off x="4500000" y="6075360"/>
              <a:ext cx="7473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65080" y="6075360"/>
              <a:ext cx="10141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5499000"/>
              <a:ext cx="1211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Event</a:t>
              </a:r>
              <a:br>
                <a:rPr sz="2000"/>
              </a:b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Pa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1760" y="5267160"/>
              <a:ext cx="38350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MOM, Web Services, E-Mail</a:t>
              </a:r>
              <a:r>
                <a:rPr b="0" lang="pl-PL" sz="1800" spc="-1" strike="noStrike">
                  <a:solidFill>
                    <a:srgbClr val="003399"/>
                  </a:solidFill>
                  <a:latin typeface="Arial"/>
                </a:rPr>
                <a:t>,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85200" y="5594400"/>
              <a:ext cx="888840" cy="228600"/>
            </a:xfrm>
            <a:prstGeom prst="rect">
              <a:avLst/>
            </a:prstGeom>
            <a:solidFill>
              <a:srgbClr val="0066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72240" y="5962680"/>
              <a:ext cx="889200" cy="228600"/>
            </a:xfrm>
            <a:prstGeom prst="rect">
              <a:avLst/>
            </a:prstGeom>
            <a:solidFill>
              <a:srgbClr val="0066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425920" y="5653080"/>
              <a:ext cx="936360" cy="395280"/>
              <a:chOff x="5425920" y="5653080"/>
              <a:chExt cx="936360" cy="395280"/>
            </a:xfrm>
          </p:grpSpPr>
          <p:sp>
            <p:nvSpPr>
              <p:cNvPr id="118" name=""/>
              <p:cNvSpPr/>
              <p:nvPr/>
            </p:nvSpPr>
            <p:spPr>
              <a:xfrm>
                <a:off x="5425920" y="5653080"/>
                <a:ext cx="936360" cy="395280"/>
              </a:xfrm>
              <a:prstGeom prst="flowChartInputOutpu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90800" y="5719680"/>
                <a:ext cx="584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v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573360" y="5894280"/>
              <a:ext cx="1884600" cy="5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326280" y="5706720"/>
              <a:ext cx="1252440" cy="66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5520" y="5875200"/>
              <a:ext cx="1277640" cy="17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727360" y="5732640"/>
              <a:ext cx="888840" cy="304560"/>
            </a:xfrm>
            <a:prstGeom prst="rect">
              <a:avLst/>
            </a:prstGeom>
            <a:solidFill>
              <a:srgbClr val="20c31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31840" y="1413000"/>
            <a:ext cx="8651880" cy="1704960"/>
            <a:chOff x="231840" y="1413000"/>
            <a:chExt cx="8651880" cy="1704960"/>
          </a:xfrm>
        </p:grpSpPr>
        <p:sp>
          <p:nvSpPr>
            <p:cNvPr id="125" name=""/>
            <p:cNvSpPr/>
            <p:nvPr/>
          </p:nvSpPr>
          <p:spPr>
            <a:xfrm flipV="1">
              <a:off x="5691240" y="1988640"/>
              <a:ext cx="1976400" cy="142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6440" y="2259000"/>
              <a:ext cx="1887840" cy="1746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11520" y="2192400"/>
              <a:ext cx="1395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7960" y="1928880"/>
              <a:ext cx="936720" cy="39528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1840" y="3117960"/>
              <a:ext cx="8651880" cy="0"/>
            </a:xfrm>
            <a:prstGeom prst="line">
              <a:avLst/>
            </a:prstGeom>
            <a:ln w="19080">
              <a:solidFill>
                <a:srgbClr val="b3b3b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844640"/>
              <a:ext cx="248904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CE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pl-PL" sz="1200" spc="-1" strike="noStrike">
                  <a:solidFill>
                    <a:srgbClr val="003399"/>
                  </a:solidFill>
                  <a:latin typeface="Arial"/>
                </a:rPr>
                <a:t>(Complex Event Process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28880" y="1413000"/>
              <a:ext cx="48643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CEP To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90360" y="2751120"/>
              <a:ext cx="40971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er, Aggregate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, Correlate in Real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006880" y="1994040"/>
              <a:ext cx="774720" cy="368280"/>
              <a:chOff x="5006880" y="1994040"/>
              <a:chExt cx="774720" cy="36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5013360" y="2000520"/>
                <a:ext cx="761760" cy="355320"/>
              </a:xfrm>
              <a:prstGeom prst="ellipse">
                <a:avLst/>
              </a:prstGeom>
              <a:solidFill>
                <a:srgbClr val="99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06880" y="1994040"/>
                <a:ext cx="774720" cy="3682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7648560" y="1898640"/>
              <a:ext cx="888840" cy="228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972040" y="1679400"/>
              <a:ext cx="1346040" cy="483480"/>
              <a:chOff x="5972040" y="1679400"/>
              <a:chExt cx="1346040" cy="483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972040" y="1679400"/>
                <a:ext cx="1346040" cy="482400"/>
              </a:xfrm>
              <a:prstGeom prst="parallelogram">
                <a:avLst>
                  <a:gd name="adj" fmla="val 69757"/>
                </a:avLst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309360" y="1696680"/>
                <a:ext cx="900000" cy="46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pl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v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849840" y="2004840"/>
              <a:ext cx="936360" cy="39564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14720" y="205884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597800" y="2235240"/>
              <a:ext cx="774720" cy="368280"/>
              <a:chOff x="7597800" y="2235240"/>
              <a:chExt cx="774720" cy="368280"/>
            </a:xfrm>
          </p:grpSpPr>
          <p:sp>
            <p:nvSpPr>
              <p:cNvPr id="143" name=""/>
              <p:cNvSpPr/>
              <p:nvPr/>
            </p:nvSpPr>
            <p:spPr>
              <a:xfrm>
                <a:off x="7604280" y="2241720"/>
                <a:ext cx="761760" cy="355320"/>
              </a:xfrm>
              <a:prstGeom prst="ellipse">
                <a:avLst/>
              </a:prstGeom>
              <a:solidFill>
                <a:srgbClr val="99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97800" y="2235240"/>
                <a:ext cx="774720" cy="3682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972040" y="2225520"/>
              <a:ext cx="1346040" cy="483480"/>
              <a:chOff x="5972040" y="2225520"/>
              <a:chExt cx="1346040" cy="48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5972040" y="2225520"/>
                <a:ext cx="1346040" cy="482400"/>
              </a:xfrm>
              <a:prstGeom prst="parallelogram">
                <a:avLst>
                  <a:gd name="adj" fmla="val 69757"/>
                </a:avLst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09360" y="2242800"/>
                <a:ext cx="900000" cy="46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mpl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v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flipV="1">
              <a:off x="2727360" y="2048040"/>
              <a:ext cx="888840" cy="304560"/>
            </a:xfrm>
            <a:prstGeom prst="rect">
              <a:avLst/>
            </a:prstGeom>
            <a:solidFill>
              <a:srgbClr val="20c31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7040" y="6310440"/>
            <a:ext cx="857520" cy="40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Przetwarzanie Złożone (CEP) – Przykład </a:t>
            </a:r>
            <a:r>
              <a:rPr b="0" lang="en-US" sz="2000" spc="-1" strike="noStrike">
                <a:solidFill>
                  <a:srgbClr val="ff0029"/>
                </a:solidFill>
                <a:latin typeface="Arial"/>
              </a:rPr>
              <a:t>Algorithmic Trading</a:t>
            </a:r>
            <a:endParaRPr b="0" lang="en-US" sz="2000" spc="-1" strike="noStrike">
              <a:solidFill>
                <a:srgbClr val="ff002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960" y="6227640"/>
            <a:ext cx="857520" cy="40968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609480" y="1523880"/>
            <a:ext cx="7999920" cy="3993120"/>
            <a:chOff x="609480" y="1523880"/>
            <a:chExt cx="7999920" cy="3993120"/>
          </a:xfrm>
        </p:grpSpPr>
        <p:grpSp>
          <p:nvGrpSpPr>
            <p:cNvPr id="153" name=""/>
            <p:cNvGrpSpPr/>
            <p:nvPr/>
          </p:nvGrpSpPr>
          <p:grpSpPr>
            <a:xfrm>
              <a:off x="3248640" y="2165760"/>
              <a:ext cx="2378880" cy="705600"/>
              <a:chOff x="3248640" y="2165760"/>
              <a:chExt cx="2378880" cy="705600"/>
            </a:xfrm>
          </p:grpSpPr>
          <p:sp>
            <p:nvSpPr>
              <p:cNvPr id="154" name=""/>
              <p:cNvSpPr/>
              <p:nvPr/>
            </p:nvSpPr>
            <p:spPr>
              <a:xfrm>
                <a:off x="3248640" y="2165760"/>
                <a:ext cx="2378880" cy="705600"/>
              </a:xfrm>
              <a:prstGeom prst="flowChartInputOutpu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11800" y="2253960"/>
                <a:ext cx="14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148920" y="2219400"/>
              <a:ext cx="2378880" cy="705600"/>
              <a:chOff x="3148920" y="2219400"/>
              <a:chExt cx="2378880" cy="705600"/>
            </a:xfrm>
          </p:grpSpPr>
          <p:sp>
            <p:nvSpPr>
              <p:cNvPr id="157" name=""/>
              <p:cNvSpPr/>
              <p:nvPr/>
            </p:nvSpPr>
            <p:spPr>
              <a:xfrm>
                <a:off x="3148920" y="2219400"/>
                <a:ext cx="2378880" cy="705600"/>
              </a:xfrm>
              <a:prstGeom prst="flowChartInputOutpu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12080" y="2307600"/>
                <a:ext cx="14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2727360" y="2417040"/>
              <a:ext cx="3116520" cy="849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920" y="1942560"/>
              <a:ext cx="1993680" cy="112932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Aplikacj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Strumień danych z giełdy w Londy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7960" y="1523880"/>
              <a:ext cx="20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Źródło zdarzeń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21720" y="2915280"/>
              <a:ext cx="2196360" cy="112932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d5fed5"/>
                </a:gs>
              </a:gsLst>
              <a:lin ang="13500000"/>
            </a:gra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Aplikacj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Arbitra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gdy różnica &gt;5% …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21720" y="2417040"/>
              <a:ext cx="21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dbiorca zdarze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040920" y="2278440"/>
              <a:ext cx="2378880" cy="705600"/>
              <a:chOff x="3040920" y="2278440"/>
              <a:chExt cx="2378880" cy="705600"/>
            </a:xfrm>
          </p:grpSpPr>
          <p:sp>
            <p:nvSpPr>
              <p:cNvPr id="165" name=""/>
              <p:cNvSpPr/>
              <p:nvPr/>
            </p:nvSpPr>
            <p:spPr>
              <a:xfrm>
                <a:off x="3040920" y="2278440"/>
                <a:ext cx="2378880" cy="705600"/>
              </a:xfrm>
              <a:prstGeom prst="flowChartInputOutpu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27640" y="2366640"/>
                <a:ext cx="135252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Zdarzeni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kupna/sprzedaż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€ 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za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S$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V="1">
              <a:off x="2648880" y="3745800"/>
              <a:ext cx="3137040" cy="969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7960" y="4124880"/>
              <a:ext cx="1993680" cy="11293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Aplikacj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Strumień danych z giełdy w Nowym Jork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480" y="3709800"/>
              <a:ext cx="21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Źródło zdarzeń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706360" y="4244400"/>
              <a:ext cx="2903040" cy="1272600"/>
              <a:chOff x="5706360" y="4244400"/>
              <a:chExt cx="2903040" cy="1272600"/>
            </a:xfrm>
          </p:grpSpPr>
          <p:sp>
            <p:nvSpPr>
              <p:cNvPr id="171" name=""/>
              <p:cNvSpPr/>
              <p:nvPr/>
            </p:nvSpPr>
            <p:spPr>
              <a:xfrm>
                <a:off x="6359400" y="4244400"/>
                <a:ext cx="0" cy="75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62080" y="4272120"/>
                <a:ext cx="0" cy="75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90440" y="4394880"/>
                <a:ext cx="78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Arial"/>
                  </a:rPr>
                  <a:t>Ku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706360" y="5009040"/>
                <a:ext cx="1297080" cy="45612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sługa „Transakcja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55360" y="5009040"/>
                <a:ext cx="1297080" cy="507960"/>
              </a:xfrm>
              <a:prstGeom prst="rect">
                <a:avLst/>
              </a:prstGeom>
              <a:solidFill>
                <a:srgbClr val="cc99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Usługa „Transakcja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03760" y="4244400"/>
                <a:ext cx="0" cy="75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591680" y="4272120"/>
                <a:ext cx="0" cy="75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549200" y="4393440"/>
                <a:ext cx="106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600" spc="-1" strike="noStrike">
                    <a:solidFill>
                      <a:srgbClr val="000000"/>
                    </a:solidFill>
                    <a:latin typeface="Arial"/>
                  </a:rPr>
                  <a:t>Sprzedaj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170160" y="4007160"/>
              <a:ext cx="2378880" cy="705600"/>
              <a:chOff x="3170160" y="4007160"/>
              <a:chExt cx="2378880" cy="705600"/>
            </a:xfrm>
          </p:grpSpPr>
          <p:sp>
            <p:nvSpPr>
              <p:cNvPr id="180" name=""/>
              <p:cNvSpPr/>
              <p:nvPr/>
            </p:nvSpPr>
            <p:spPr>
              <a:xfrm>
                <a:off x="3170160" y="4007160"/>
                <a:ext cx="2378880" cy="705600"/>
              </a:xfrm>
              <a:prstGeom prst="flowChartInputOutpu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33320" y="4095360"/>
                <a:ext cx="14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070440" y="4061160"/>
              <a:ext cx="2378880" cy="705600"/>
              <a:chOff x="3070440" y="4061160"/>
              <a:chExt cx="2378880" cy="705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070440" y="4061160"/>
                <a:ext cx="2378880" cy="705600"/>
              </a:xfrm>
              <a:prstGeom prst="flowChartInputOutpu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33600" y="4149360"/>
                <a:ext cx="144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962440" y="4119840"/>
              <a:ext cx="2378880" cy="705600"/>
              <a:chOff x="2962440" y="4119840"/>
              <a:chExt cx="2378880" cy="705600"/>
            </a:xfrm>
          </p:grpSpPr>
          <p:sp>
            <p:nvSpPr>
              <p:cNvPr id="186" name=""/>
              <p:cNvSpPr/>
              <p:nvPr/>
            </p:nvSpPr>
            <p:spPr>
              <a:xfrm>
                <a:off x="2962440" y="4119840"/>
                <a:ext cx="2378880" cy="705600"/>
              </a:xfrm>
              <a:prstGeom prst="flowChartInputOutpu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49160" y="4208040"/>
                <a:ext cx="1352520" cy="54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Zdarzeni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kupna/sprzedaż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853920"/>
                    <a:tab algn="l" pos="1708200"/>
                    <a:tab algn="l" pos="2562120"/>
                    <a:tab algn="l" pos="3416400"/>
                    <a:tab algn="l" pos="4270320"/>
                    <a:tab algn="l" pos="5124600"/>
                    <a:tab algn="l" pos="5978520"/>
                    <a:tab algn="l" pos="6832440"/>
                    <a:tab algn="l" pos="7686720"/>
                    <a:tab algn="l" pos="8540640"/>
                    <a:tab algn="l" pos="9394920"/>
                    <a:tab algn="l" pos="102488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S$</a:t>
                </a:r>
                <a:r>
                  <a:rPr b="0" lang="pl-PL" sz="1400" spc="-1" strike="noStrike">
                    <a:solidFill>
                      <a:srgbClr val="000000"/>
                    </a:solidFill>
                    <a:latin typeface="Arial"/>
                  </a:rPr>
                  <a:t> za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12840" y="5572080"/>
            <a:ext cx="6311880" cy="1103400"/>
          </a:xfrm>
          <a:prstGeom prst="borderCallout2">
            <a:avLst>
              <a:gd name="adj1" fmla="val 18750"/>
              <a:gd name="adj2" fmla="val -8333"/>
              <a:gd name="adj3" fmla="val 10361"/>
              <a:gd name="adj4" fmla="val 102564"/>
              <a:gd name="adj5" fmla="val -124027"/>
              <a:gd name="adj6" fmla="val 108148"/>
            </a:avLst>
          </a:prstGeom>
          <a:solidFill>
            <a:srgbClr val="ffffff"/>
          </a:solidFill>
          <a:ln w="19080">
            <a:solidFill>
              <a:srgbClr val="003399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3399"/>
                </a:solidFill>
                <a:latin typeface="Arial"/>
              </a:rPr>
              <a:t>Wykonanie własnego kodu, notyfikacja ludzi (np. na ekranie), uruchomienie procesów BPM lub wywołanie aplikacji lub usług SOA – potencjalnie także wzbogacenie zdarzeń o dodatkowe informacje (z logów lub baz dany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840" y="4789440"/>
            <a:ext cx="5016240" cy="654120"/>
          </a:xfrm>
          <a:prstGeom prst="borderCallout2">
            <a:avLst>
              <a:gd name="adj1" fmla="val 18750"/>
              <a:gd name="adj2" fmla="val -8333"/>
              <a:gd name="adj3" fmla="val 17476"/>
              <a:gd name="adj4" fmla="val 106074"/>
              <a:gd name="adj5" fmla="val -141018"/>
              <a:gd name="adj6" fmla="val 110666"/>
            </a:avLst>
          </a:prstGeom>
          <a:solidFill>
            <a:srgbClr val="ffffff"/>
          </a:solidFill>
          <a:ln w="19080">
            <a:solidFill>
              <a:srgbClr val="003399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pl-PL" sz="1200" spc="-1" strike="noStrike">
                <a:solidFill>
                  <a:srgbClr val="003399"/>
                </a:solidFill>
                <a:latin typeface="Arial"/>
              </a:rPr>
              <a:t> Reguły EPL: filtrowanie, korelacja, ograniczenia, agregacja, okna czasowe, przyczynowość, wzorce, brakujące zdarzeni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58920" y="2529000"/>
            <a:ext cx="936720" cy="395280"/>
          </a:xfrm>
          <a:prstGeom prst="flowChartInputOutpu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17720" y="3875040"/>
            <a:ext cx="936720" cy="395280"/>
          </a:xfrm>
          <a:prstGeom prst="flowChartInputOutpu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19240" y="3976560"/>
            <a:ext cx="936720" cy="395280"/>
          </a:xfrm>
          <a:prstGeom prst="flowChartInputOutpu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Anatomia rozwiązania typu ESP/CEP</a:t>
            </a:r>
            <a:br>
              <a:rPr sz="3200"/>
            </a:br>
            <a:r>
              <a:rPr b="0" lang="pl-PL" sz="1800" spc="-1" strike="noStrike">
                <a:solidFill>
                  <a:srgbClr val="ff0029"/>
                </a:solidFill>
                <a:latin typeface="Arial"/>
              </a:rPr>
              <a:t>Gartner</a:t>
            </a:r>
            <a:endParaRPr b="0" lang="en-US" sz="18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8280" y="1380960"/>
            <a:ext cx="4400640" cy="379440"/>
          </a:xfrm>
          <a:prstGeom prst="borderCallout2">
            <a:avLst>
              <a:gd name="adj1" fmla="val 18750"/>
              <a:gd name="adj2" fmla="val -8333"/>
              <a:gd name="adj3" fmla="val 30125"/>
              <a:gd name="adj4" fmla="val -12736"/>
              <a:gd name="adj5" fmla="val 305856"/>
              <a:gd name="adj6" fmla="val -23773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cfdfe">
                  <a:alpha val="0"/>
                </a:srgbClr>
              </a:gs>
            </a:gsLst>
            <a:lin ang="5400000"/>
          </a:gradFill>
          <a:ln w="19080">
            <a:solidFill>
              <a:srgbClr val="003399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pl-PL" sz="1200" spc="-1" strike="noStrike">
                <a:solidFill>
                  <a:srgbClr val="003399"/>
                </a:solidFill>
                <a:latin typeface="Arial"/>
              </a:rPr>
              <a:t>Przechwycenie zdarzeń (prostych) – np. poprzez adap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93800" y="2892600"/>
            <a:ext cx="710640" cy="815400"/>
            <a:chOff x="793800" y="2892600"/>
            <a:chExt cx="710640" cy="815400"/>
          </a:xfrm>
        </p:grpSpPr>
        <p:grpSp>
          <p:nvGrpSpPr>
            <p:cNvPr id="196" name=""/>
            <p:cNvGrpSpPr/>
            <p:nvPr/>
          </p:nvGrpSpPr>
          <p:grpSpPr>
            <a:xfrm>
              <a:off x="891720" y="2940840"/>
              <a:ext cx="547560" cy="710640"/>
              <a:chOff x="891720" y="2940840"/>
              <a:chExt cx="547560" cy="710640"/>
            </a:xfrm>
          </p:grpSpPr>
          <p:sp>
            <p:nvSpPr>
              <p:cNvPr id="197" name=""/>
              <p:cNvSpPr/>
              <p:nvPr/>
            </p:nvSpPr>
            <p:spPr>
              <a:xfrm>
                <a:off x="1165320" y="3311640"/>
                <a:ext cx="0" cy="19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720" y="3471120"/>
                <a:ext cx="547560" cy="18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78120" y="2940840"/>
                <a:ext cx="374400" cy="3985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93800" y="2892600"/>
              <a:ext cx="710640" cy="815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864560" y="3638520"/>
            <a:ext cx="1279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45240" y="1643040"/>
            <a:ext cx="1224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31080" y="3848040"/>
            <a:ext cx="1118880" cy="1536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29240" y="1927080"/>
            <a:ext cx="1623240" cy="1109520"/>
            <a:chOff x="7329240" y="1927080"/>
            <a:chExt cx="1623240" cy="1109520"/>
          </a:xfrm>
        </p:grpSpPr>
        <p:grpSp>
          <p:nvGrpSpPr>
            <p:cNvPr id="205" name=""/>
            <p:cNvGrpSpPr/>
            <p:nvPr/>
          </p:nvGrpSpPr>
          <p:grpSpPr>
            <a:xfrm>
              <a:off x="7329240" y="1927080"/>
              <a:ext cx="1623240" cy="1109520"/>
              <a:chOff x="7329240" y="1927080"/>
              <a:chExt cx="1623240" cy="1109520"/>
            </a:xfrm>
          </p:grpSpPr>
          <p:sp>
            <p:nvSpPr>
              <p:cNvPr id="206" name=""/>
              <p:cNvSpPr/>
              <p:nvPr/>
            </p:nvSpPr>
            <p:spPr>
              <a:xfrm>
                <a:off x="7792200" y="2614680"/>
                <a:ext cx="698040" cy="66240"/>
              </a:xfrm>
              <a:prstGeom prst="rect">
                <a:avLst/>
              </a:prstGeom>
              <a:gradFill rotWithShape="0">
                <a:gsLst>
                  <a:gs pos="0">
                    <a:srgbClr val="b3b3b3"/>
                  </a:gs>
                  <a:gs pos="100000">
                    <a:srgbClr val="dfdfd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04640" y="1927080"/>
                <a:ext cx="1082880" cy="695520"/>
              </a:xfrm>
              <a:prstGeom prst="rect">
                <a:avLst/>
              </a:prstGeom>
              <a:gradFill rotWithShape="0">
                <a:gsLst>
                  <a:gs pos="0">
                    <a:srgbClr val="b3b3b3"/>
                  </a:gs>
                  <a:gs pos="100000">
                    <a:srgbClr val="dfdfd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13360" y="2016000"/>
                <a:ext cx="865440" cy="488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3b3b3"/>
                  </a:gs>
                  <a:gs pos="100000">
                    <a:srgbClr val="dfdfd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45960" y="2674080"/>
                <a:ext cx="1200240" cy="281160"/>
              </a:xfrm>
              <a:prstGeom prst="rect">
                <a:avLst/>
              </a:prstGeom>
              <a:gradFill rotWithShape="0">
                <a:gsLst>
                  <a:gs pos="0">
                    <a:srgbClr val="b3b3b3"/>
                  </a:gs>
                  <a:gs pos="100000">
                    <a:srgbClr val="dfdfd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0800000">
                <a:off x="7329240" y="2866680"/>
                <a:ext cx="1623240" cy="169920"/>
              </a:xfrm>
              <a:custGeom>
                <a:avLst/>
                <a:gdLst>
                  <a:gd name="textAreaLeft" fmla="*/ 222120 w 1623240"/>
                  <a:gd name="textAreaRight" fmla="*/ 1401120 w 1623240"/>
                  <a:gd name="textAreaTop" fmla="*/ 23040 h 169920"/>
                  <a:gd name="textAreaBottom" fmla="*/ 146880 h 169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29" y="21600"/>
                    </a:lnTo>
                    <a:lnTo>
                      <a:pt x="2171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b3b3"/>
                  </a:gs>
                  <a:gs pos="100000">
                    <a:srgbClr val="dfdfd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7724880" y="2006640"/>
              <a:ext cx="852480" cy="559800"/>
            </a:xfrm>
            <a:prstGeom prst="rect">
              <a:avLst/>
            </a:prstGeom>
            <a:gradFill rotWithShape="0">
              <a:gsLst>
                <a:gs pos="0">
                  <a:srgbClr val="b3b3b3"/>
                </a:gs>
                <a:gs pos="100000">
                  <a:srgbClr val="dfdf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sh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6235560" y="2336760"/>
            <a:ext cx="1359000" cy="120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99280" y="3759120"/>
            <a:ext cx="1587600" cy="34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2400" y="4703760"/>
            <a:ext cx="163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ługi 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86120" y="1924200"/>
            <a:ext cx="3743280" cy="379440"/>
          </a:xfrm>
          <a:prstGeom prst="borderCallout2">
            <a:avLst>
              <a:gd name="adj1" fmla="val 18750"/>
              <a:gd name="adj2" fmla="val -8333"/>
              <a:gd name="adj3" fmla="val 30125"/>
              <a:gd name="adj4" fmla="val -12212"/>
              <a:gd name="adj5" fmla="val 197490"/>
              <a:gd name="adj6" fmla="val -21037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cfdfe">
                  <a:alpha val="0"/>
                </a:srgbClr>
              </a:gs>
            </a:gsLst>
            <a:lin ang="5400000"/>
          </a:gradFill>
          <a:ln w="19080">
            <a:solidFill>
              <a:srgbClr val="003399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pl-PL" sz="1200" spc="-1" strike="noStrike">
                <a:solidFill>
                  <a:srgbClr val="003399"/>
                </a:solidFill>
                <a:latin typeface="Arial"/>
              </a:rPr>
              <a:t> Przetransportowanie zdarzenia – np. poprzez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11280" y="3238200"/>
            <a:ext cx="1625760" cy="330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638360" y="4215960"/>
            <a:ext cx="1498680" cy="203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3173400"/>
            <a:ext cx="1816200" cy="406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3280" y="3606840"/>
            <a:ext cx="216000" cy="76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886200" y="3733560"/>
            <a:ext cx="1727280" cy="507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19600" y="3508200"/>
            <a:ext cx="762120" cy="35568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6320" y="3009960"/>
            <a:ext cx="1346400" cy="482400"/>
          </a:xfrm>
          <a:prstGeom prst="parallelogram">
            <a:avLst>
              <a:gd name="adj" fmla="val 69776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43200" y="3102120"/>
            <a:ext cx="6973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darz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50880" y="2003400"/>
            <a:ext cx="996480" cy="758520"/>
            <a:chOff x="650880" y="2003400"/>
            <a:chExt cx="996480" cy="758520"/>
          </a:xfrm>
        </p:grpSpPr>
        <p:grpSp>
          <p:nvGrpSpPr>
            <p:cNvPr id="225" name=""/>
            <p:cNvGrpSpPr/>
            <p:nvPr/>
          </p:nvGrpSpPr>
          <p:grpSpPr>
            <a:xfrm>
              <a:off x="1184040" y="2355840"/>
              <a:ext cx="463320" cy="406080"/>
              <a:chOff x="1184040" y="2355840"/>
              <a:chExt cx="463320" cy="406080"/>
            </a:xfrm>
          </p:grpSpPr>
          <p:sp>
            <p:nvSpPr>
              <p:cNvPr id="226" name=""/>
              <p:cNvSpPr/>
              <p:nvPr/>
            </p:nvSpPr>
            <p:spPr>
              <a:xfrm>
                <a:off x="1184040" y="2355840"/>
                <a:ext cx="463320" cy="406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9600" y="2516400"/>
                <a:ext cx="230400" cy="164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bcbc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302480" y="2411280"/>
                <a:ext cx="226440" cy="73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807840" y="2003400"/>
              <a:ext cx="663120" cy="24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650880" y="2355840"/>
              <a:ext cx="463320" cy="406080"/>
              <a:chOff x="650880" y="2355840"/>
              <a:chExt cx="463320" cy="406080"/>
            </a:xfrm>
          </p:grpSpPr>
          <p:sp>
            <p:nvSpPr>
              <p:cNvPr id="231" name=""/>
              <p:cNvSpPr/>
              <p:nvPr/>
            </p:nvSpPr>
            <p:spPr>
              <a:xfrm>
                <a:off x="650880" y="2355840"/>
                <a:ext cx="463320" cy="406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6440" y="2516400"/>
                <a:ext cx="230400" cy="164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bcbc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9320" y="2411280"/>
                <a:ext cx="226440" cy="73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flipH="1">
              <a:off x="1002960" y="2249280"/>
              <a:ext cx="1015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80800" y="2249280"/>
              <a:ext cx="885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50880" y="3895560"/>
            <a:ext cx="996480" cy="758520"/>
            <a:chOff x="650880" y="3895560"/>
            <a:chExt cx="996480" cy="758520"/>
          </a:xfrm>
        </p:grpSpPr>
        <p:grpSp>
          <p:nvGrpSpPr>
            <p:cNvPr id="237" name=""/>
            <p:cNvGrpSpPr/>
            <p:nvPr/>
          </p:nvGrpSpPr>
          <p:grpSpPr>
            <a:xfrm>
              <a:off x="1184040" y="4248000"/>
              <a:ext cx="463320" cy="406080"/>
              <a:chOff x="1184040" y="4248000"/>
              <a:chExt cx="463320" cy="406080"/>
            </a:xfrm>
          </p:grpSpPr>
          <p:sp>
            <p:nvSpPr>
              <p:cNvPr id="238" name=""/>
              <p:cNvSpPr/>
              <p:nvPr/>
            </p:nvSpPr>
            <p:spPr>
              <a:xfrm>
                <a:off x="1184040" y="4248000"/>
                <a:ext cx="463320" cy="406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9600" y="4408560"/>
                <a:ext cx="230400" cy="164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bcbc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02480" y="4303440"/>
                <a:ext cx="226440" cy="73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807840" y="3895560"/>
              <a:ext cx="663120" cy="24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50880" y="4248000"/>
              <a:ext cx="463320" cy="406080"/>
              <a:chOff x="650880" y="4248000"/>
              <a:chExt cx="463320" cy="406080"/>
            </a:xfrm>
          </p:grpSpPr>
          <p:sp>
            <p:nvSpPr>
              <p:cNvPr id="243" name=""/>
              <p:cNvSpPr/>
              <p:nvPr/>
            </p:nvSpPr>
            <p:spPr>
              <a:xfrm>
                <a:off x="650880" y="4248000"/>
                <a:ext cx="463320" cy="406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6440" y="4408560"/>
                <a:ext cx="230400" cy="164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bcbc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9320" y="4303440"/>
                <a:ext cx="226440" cy="73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 flipH="1">
              <a:off x="1002960" y="4141440"/>
              <a:ext cx="1015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80800" y="4141440"/>
              <a:ext cx="8856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117960" y="4079880"/>
            <a:ext cx="761760" cy="35568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56120" y="3025800"/>
            <a:ext cx="761760" cy="35568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00680" y="3848040"/>
            <a:ext cx="1346040" cy="482760"/>
          </a:xfrm>
          <a:prstGeom prst="parallelogram">
            <a:avLst>
              <a:gd name="adj" fmla="val 69705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89720" y="3708360"/>
            <a:ext cx="1346040" cy="482760"/>
          </a:xfrm>
          <a:prstGeom prst="parallelogram">
            <a:avLst>
              <a:gd name="adj" fmla="val 69705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58080" y="2730600"/>
            <a:ext cx="1346040" cy="482400"/>
          </a:xfrm>
          <a:prstGeom prst="parallelogram">
            <a:avLst>
              <a:gd name="adj" fmla="val 69757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0400" y="3952800"/>
            <a:ext cx="762120" cy="35568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064280" y="5013360"/>
            <a:ext cx="997200" cy="758520"/>
            <a:chOff x="7064280" y="5013360"/>
            <a:chExt cx="997200" cy="758520"/>
          </a:xfrm>
        </p:grpSpPr>
        <p:grpSp>
          <p:nvGrpSpPr>
            <p:cNvPr id="255" name=""/>
            <p:cNvGrpSpPr/>
            <p:nvPr/>
          </p:nvGrpSpPr>
          <p:grpSpPr>
            <a:xfrm>
              <a:off x="7597800" y="5365800"/>
              <a:ext cx="463680" cy="406080"/>
              <a:chOff x="7597800" y="5365800"/>
              <a:chExt cx="463680" cy="406080"/>
            </a:xfrm>
          </p:grpSpPr>
          <p:sp>
            <p:nvSpPr>
              <p:cNvPr id="256" name=""/>
              <p:cNvSpPr/>
              <p:nvPr/>
            </p:nvSpPr>
            <p:spPr>
              <a:xfrm>
                <a:off x="7597800" y="5365800"/>
                <a:ext cx="463680" cy="406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13720" y="5526360"/>
                <a:ext cx="230400" cy="164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bcbc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16240" y="5421240"/>
                <a:ext cx="226440" cy="73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7221600" y="5013360"/>
              <a:ext cx="663480" cy="24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064280" y="5365800"/>
              <a:ext cx="463680" cy="406080"/>
              <a:chOff x="7064280" y="5365800"/>
              <a:chExt cx="463680" cy="406080"/>
            </a:xfrm>
          </p:grpSpPr>
          <p:sp>
            <p:nvSpPr>
              <p:cNvPr id="261" name=""/>
              <p:cNvSpPr/>
              <p:nvPr/>
            </p:nvSpPr>
            <p:spPr>
              <a:xfrm>
                <a:off x="7064280" y="5365800"/>
                <a:ext cx="463680" cy="406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180200" y="5526360"/>
                <a:ext cx="230400" cy="164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cbcbcb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2720" y="5421240"/>
                <a:ext cx="226440" cy="73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 flipH="1">
              <a:off x="7416360" y="5259240"/>
              <a:ext cx="1018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94560" y="5259240"/>
              <a:ext cx="8892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006640" y="3214800"/>
            <a:ext cx="936720" cy="395280"/>
            <a:chOff x="2006640" y="3214800"/>
            <a:chExt cx="936720" cy="395280"/>
          </a:xfrm>
        </p:grpSpPr>
        <p:sp>
          <p:nvSpPr>
            <p:cNvPr id="267" name=""/>
            <p:cNvSpPr/>
            <p:nvPr/>
          </p:nvSpPr>
          <p:spPr>
            <a:xfrm>
              <a:off x="2006640" y="3214800"/>
              <a:ext cx="936720" cy="39528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81960" y="327528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pl-PL" sz="1100" spc="-1" strike="noStrike">
                  <a:solidFill>
                    <a:srgbClr val="000000"/>
                  </a:solidFill>
                  <a:latin typeface="Arial"/>
                </a:rPr>
                <a:t>Zdarzeni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146320" y="4091040"/>
            <a:ext cx="936720" cy="395280"/>
            <a:chOff x="2146320" y="4091040"/>
            <a:chExt cx="936720" cy="395280"/>
          </a:xfrm>
        </p:grpSpPr>
        <p:sp>
          <p:nvSpPr>
            <p:cNvPr id="270" name=""/>
            <p:cNvSpPr/>
            <p:nvPr/>
          </p:nvSpPr>
          <p:spPr>
            <a:xfrm>
              <a:off x="2146320" y="4091040"/>
              <a:ext cx="936720" cy="39528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21640" y="415152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pl-PL" sz="1100" spc="-1" strike="noStrike">
                  <a:solidFill>
                    <a:srgbClr val="000000"/>
                  </a:solidFill>
                  <a:latin typeface="Arial"/>
                </a:rPr>
                <a:t>Zdarzeni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650960" y="2552760"/>
            <a:ext cx="1612800" cy="507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63680" y="2590920"/>
            <a:ext cx="936720" cy="395280"/>
            <a:chOff x="2263680" y="2590920"/>
            <a:chExt cx="936720" cy="395280"/>
          </a:xfrm>
        </p:grpSpPr>
        <p:sp>
          <p:nvSpPr>
            <p:cNvPr id="274" name=""/>
            <p:cNvSpPr/>
            <p:nvPr/>
          </p:nvSpPr>
          <p:spPr>
            <a:xfrm>
              <a:off x="2263680" y="2590920"/>
              <a:ext cx="936720" cy="395280"/>
            </a:xfrm>
            <a:prstGeom prst="flowChartInputOutpu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39000" y="26514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pl-PL" sz="1100" spc="-1" strike="noStrike">
                  <a:solidFill>
                    <a:srgbClr val="000000"/>
                  </a:solidFill>
                  <a:latin typeface="Arial"/>
                </a:rPr>
                <a:t>Zdarzeni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064280" y="6267600"/>
            <a:ext cx="857520" cy="40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341600" y="3948120"/>
            <a:ext cx="6973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darz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99000" y="2819520"/>
            <a:ext cx="6973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darz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19840" y="3805200"/>
            <a:ext cx="6973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darze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815184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Dlaczego teraz ?</a:t>
            </a:r>
            <a:br>
              <a:rPr sz="3200"/>
            </a:br>
            <a:r>
              <a:rPr b="0" lang="pl-PL" sz="1800" spc="-1" strike="noStrike">
                <a:solidFill>
                  <a:srgbClr val="ff0029"/>
                </a:solidFill>
                <a:latin typeface="Arial"/>
              </a:rPr>
              <a:t>Gartner</a:t>
            </a:r>
            <a:endParaRPr b="0" lang="en-US" sz="1800" spc="-1" strike="noStrike">
              <a:solidFill>
                <a:srgbClr val="ff0029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92080" y="1496880"/>
            <a:ext cx="7691400" cy="452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Koncepcja zdarzeniowego app serwera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pic>
        <p:nvPicPr>
          <p:cNvPr id="283" name="Picture 10" descr="Event Streams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373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2680" y="455760"/>
            <a:ext cx="7743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29"/>
                </a:solidFill>
                <a:latin typeface="Arial"/>
              </a:rPr>
              <a:t>Przykład: BEA </a:t>
            </a:r>
            <a:r>
              <a:rPr b="0" lang="en-US" sz="3200" spc="-1" strike="noStrike">
                <a:solidFill>
                  <a:srgbClr val="ff0029"/>
                </a:solidFill>
                <a:latin typeface="Arial"/>
              </a:rPr>
              <a:t>WebLogic Event Server</a:t>
            </a:r>
            <a:endParaRPr b="0" lang="en-US" sz="32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72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1998"/>
              </a:lnSpc>
              <a:spcBef>
                <a:spcPts val="1001"/>
              </a:spcBef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tener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ts val="1998"/>
              </a:lnSpc>
              <a:spcBef>
                <a:spcPts val="799"/>
              </a:spcBef>
              <a:spcAft>
                <a:spcPts val="400"/>
              </a:spcAft>
              <a:buSzPct val="100000"/>
              <a:buBlip>
                <a:blip r:embed="rId2"/>
              </a:buBlip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owy model budowy aplika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177840">
              <a:lnSpc>
                <a:spcPts val="1998"/>
              </a:lnSpc>
              <a:spcBef>
                <a:spcPts val="799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pring, OSGi, Spring-DM, PO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ts val="1998"/>
              </a:lnSpc>
              <a:spcBef>
                <a:spcPts val="799"/>
              </a:spcBef>
              <a:spcAft>
                <a:spcPts val="400"/>
              </a:spcAft>
              <a:buSzPct val="100000"/>
              <a:buBlip>
                <a:blip r:embed="rId4"/>
              </a:buBlip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Event-dr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ts val="1998"/>
              </a:lnSpc>
              <a:spcBef>
                <a:spcPts val="799"/>
              </a:spcBef>
              <a:spcAft>
                <a:spcPts val="400"/>
              </a:spcAft>
              <a:buSzPct val="100000"/>
              <a:buBlip>
                <a:blip r:embed="rId5"/>
              </a:buBlip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oft 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1998"/>
              </a:lnSpc>
              <a:spcBef>
                <a:spcPts val="1001"/>
              </a:spcBef>
              <a:spcAft>
                <a:spcPts val="400"/>
              </a:spcAft>
              <a:buSzPct val="100000"/>
              <a:buBlip>
                <a:blip r:embed="rId6"/>
              </a:buBlip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łożona korelacja zdarze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ts val="1998"/>
              </a:lnSpc>
              <a:spcBef>
                <a:spcPts val="799"/>
              </a:spcBef>
              <a:spcAft>
                <a:spcPts val="400"/>
              </a:spcAft>
              <a:buSzPct val="100000"/>
              <a:buBlip>
                <a:blip r:embed="rId7"/>
              </a:buBlip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EP - </a:t>
            </a:r>
            <a:r>
              <a:rPr b="1" lang="en-US" sz="1600" spc="-1" strike="noStrike">
                <a:solidFill>
                  <a:srgbClr val="0072ea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plex </a:t>
            </a:r>
            <a:r>
              <a:rPr b="1" lang="en-US" sz="1600" spc="-1" strike="noStrike">
                <a:solidFill>
                  <a:srgbClr val="0072ea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</a:t>
            </a:r>
            <a:r>
              <a:rPr b="1" lang="en-US" sz="1600" spc="-1" strike="noStrike">
                <a:solidFill>
                  <a:srgbClr val="0072ea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177840">
              <a:lnSpc>
                <a:spcPts val="1998"/>
              </a:lnSpc>
              <a:spcBef>
                <a:spcPts val="799"/>
              </a:spcBef>
              <a:spcAft>
                <a:spcPts val="300"/>
              </a:spcAft>
              <a:buSzPct val="100000"/>
              <a:buBlip>
                <a:blip r:embed="rId8"/>
              </a:buBlip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Event Processing Language – rozszerzony 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ts val="1998"/>
              </a:lnSpc>
              <a:spcBef>
                <a:spcPts val="799"/>
              </a:spcBef>
              <a:spcAft>
                <a:spcPts val="400"/>
              </a:spcAft>
              <a:buSzPct val="100000"/>
              <a:buBlip>
                <a:blip r:embed="rId9"/>
              </a:buBlip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ESP – </a:t>
            </a:r>
            <a:r>
              <a:rPr b="1" lang="pl-PL" sz="1600" spc="-1" strike="noStrike">
                <a:solidFill>
                  <a:srgbClr val="0072ea"/>
                </a:solidFill>
                <a:latin typeface="Arial"/>
              </a:rPr>
              <a:t>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vent </a:t>
            </a:r>
            <a:r>
              <a:rPr b="1" lang="pl-PL" sz="1600" spc="-1" strike="noStrike">
                <a:solidFill>
                  <a:srgbClr val="0072ea"/>
                </a:solidFill>
                <a:latin typeface="Arial"/>
              </a:rPr>
              <a:t>S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ream </a:t>
            </a:r>
            <a:r>
              <a:rPr b="1" lang="pl-PL" sz="1600" spc="-1" strike="noStrike">
                <a:solidFill>
                  <a:srgbClr val="0072ea"/>
                </a:solidFill>
                <a:latin typeface="Arial"/>
              </a:rPr>
              <a:t>P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57760" y="1384200"/>
            <a:ext cx="755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14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495680" y="2044800"/>
            <a:ext cx="4419000" cy="2984040"/>
            <a:chOff x="4495680" y="2044800"/>
            <a:chExt cx="4419000" cy="2984040"/>
          </a:xfrm>
        </p:grpSpPr>
        <p:sp>
          <p:nvSpPr>
            <p:cNvPr id="288" name=""/>
            <p:cNvSpPr/>
            <p:nvPr/>
          </p:nvSpPr>
          <p:spPr>
            <a:xfrm>
              <a:off x="4612320" y="2044800"/>
              <a:ext cx="4302360" cy="298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3b3b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07280" y="2905560"/>
              <a:ext cx="675360" cy="17046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74240" y="2905560"/>
              <a:ext cx="675360" cy="17046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61000" y="4133520"/>
              <a:ext cx="503280" cy="3931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383600" y="3585960"/>
              <a:ext cx="546840" cy="249120"/>
              <a:chOff x="7383600" y="3585960"/>
              <a:chExt cx="546840" cy="249120"/>
            </a:xfrm>
          </p:grpSpPr>
          <p:sp>
            <p:nvSpPr>
              <p:cNvPr id="293" name=""/>
              <p:cNvSpPr/>
              <p:nvPr/>
            </p:nvSpPr>
            <p:spPr>
              <a:xfrm>
                <a:off x="7383600" y="3742200"/>
                <a:ext cx="85320" cy="92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36240" y="3742200"/>
                <a:ext cx="85680" cy="92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93200" y="3742200"/>
                <a:ext cx="85680" cy="92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89240" y="3585960"/>
                <a:ext cx="85680" cy="92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844760" y="3742200"/>
                <a:ext cx="85680" cy="92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98" name=""/>
              <p:cNvCxnSpPr>
                <a:stCxn id="293" idx="3"/>
                <a:endCxn id="294" idx="1"/>
              </p:cNvCxnSpPr>
              <p:nvPr/>
            </p:nvCxnSpPr>
            <p:spPr>
              <a:xfrm>
                <a:off x="7479360" y="3788640"/>
                <a:ext cx="46440" cy="1080"/>
              </a:xfrm>
              <a:prstGeom prst="straightConnector1">
                <a:avLst/>
              </a:prstGeom>
              <a:ln w="25560">
                <a:solidFill>
                  <a:srgbClr val="808080"/>
                </a:solidFill>
                <a:miter/>
              </a:ln>
            </p:spPr>
          </p:cxnSp>
          <p:cxnSp>
            <p:nvCxnSpPr>
              <p:cNvPr id="299" name=""/>
              <p:cNvCxnSpPr>
                <a:stCxn id="294" idx="3"/>
                <a:endCxn id="295" idx="1"/>
              </p:cNvCxnSpPr>
              <p:nvPr/>
            </p:nvCxnSpPr>
            <p:spPr>
              <a:xfrm>
                <a:off x="7632000" y="3788640"/>
                <a:ext cx="50760" cy="1080"/>
              </a:xfrm>
              <a:prstGeom prst="straightConnector1">
                <a:avLst/>
              </a:prstGeom>
              <a:ln w="25560">
                <a:solidFill>
                  <a:srgbClr val="808080"/>
                </a:solidFill>
                <a:miter/>
              </a:ln>
            </p:spPr>
          </p:cxnSp>
          <p:cxnSp>
            <p:nvCxnSpPr>
              <p:cNvPr id="300" name=""/>
              <p:cNvCxnSpPr>
                <a:stCxn id="294" idx="0"/>
                <a:endCxn id="296" idx="1"/>
              </p:cNvCxnSpPr>
              <p:nvPr/>
            </p:nvCxnSpPr>
            <p:spPr>
              <a:xfrm flipH="1" flipV="1" rot="5400000">
                <a:off x="7580520" y="3631680"/>
                <a:ext cx="97560" cy="99360"/>
              </a:xfrm>
              <a:prstGeom prst="bentConnector2">
                <a:avLst/>
              </a:prstGeom>
              <a:ln w="25560">
                <a:solidFill>
                  <a:srgbClr val="808080"/>
                </a:solidFill>
                <a:miter/>
              </a:ln>
            </p:spPr>
          </p:cxnSp>
          <p:cxnSp>
            <p:nvCxnSpPr>
              <p:cNvPr id="301" name=""/>
              <p:cNvCxnSpPr>
                <a:stCxn id="296" idx="3"/>
                <a:endCxn id="297" idx="0"/>
              </p:cNvCxnSpPr>
              <p:nvPr/>
            </p:nvCxnSpPr>
            <p:spPr>
              <a:xfrm>
                <a:off x="7785360" y="3632760"/>
                <a:ext cx="103320" cy="97560"/>
              </a:xfrm>
              <a:prstGeom prst="bentConnector2">
                <a:avLst/>
              </a:prstGeom>
              <a:ln w="25560">
                <a:solidFill>
                  <a:srgbClr val="808080"/>
                </a:solidFill>
                <a:miter/>
              </a:ln>
            </p:spPr>
          </p:cxnSp>
          <p:cxnSp>
            <p:nvCxnSpPr>
              <p:cNvPr id="302" name=""/>
              <p:cNvCxnSpPr>
                <a:stCxn id="295" idx="3"/>
                <a:endCxn id="297" idx="1"/>
              </p:cNvCxnSpPr>
              <p:nvPr/>
            </p:nvCxnSpPr>
            <p:spPr>
              <a:xfrm>
                <a:off x="7789680" y="3788640"/>
                <a:ext cx="45360" cy="1080"/>
              </a:xfrm>
              <a:prstGeom prst="straightConnector1">
                <a:avLst/>
              </a:prstGeom>
              <a:ln w="25560">
                <a:solidFill>
                  <a:srgbClr val="808080"/>
                </a:solidFill>
                <a:miter/>
              </a:ln>
            </p:spPr>
          </p:cxnSp>
        </p:grpSp>
        <p:grpSp>
          <p:nvGrpSpPr>
            <p:cNvPr id="303" name=""/>
            <p:cNvGrpSpPr/>
            <p:nvPr/>
          </p:nvGrpSpPr>
          <p:grpSpPr>
            <a:xfrm>
              <a:off x="4820040" y="3038040"/>
              <a:ext cx="513360" cy="1464120"/>
              <a:chOff x="4820040" y="3038040"/>
              <a:chExt cx="513360" cy="1464120"/>
            </a:xfrm>
          </p:grpSpPr>
          <p:sp>
            <p:nvSpPr>
              <p:cNvPr id="304" name=""/>
              <p:cNvSpPr/>
              <p:nvPr/>
            </p:nvSpPr>
            <p:spPr>
              <a:xfrm>
                <a:off x="4820040" y="303804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5" name=""/>
              <p:cNvCxnSpPr>
                <a:stCxn id="290" idx="1"/>
                <a:endCxn id="304" idx="6"/>
              </p:cNvCxnSpPr>
              <p:nvPr/>
            </p:nvCxnSpPr>
            <p:spPr>
              <a:xfrm flipH="1" flipV="1">
                <a:off x="4841640" y="3053520"/>
                <a:ext cx="492120" cy="73368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sp>
            <p:nvSpPr>
              <p:cNvPr id="306" name=""/>
              <p:cNvSpPr/>
              <p:nvPr/>
            </p:nvSpPr>
            <p:spPr>
              <a:xfrm>
                <a:off x="4820040" y="340092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20040" y="376344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8" name=""/>
              <p:cNvCxnSpPr>
                <a:stCxn id="290" idx="1"/>
                <a:endCxn id="306" idx="6"/>
              </p:cNvCxnSpPr>
              <p:nvPr/>
            </p:nvCxnSpPr>
            <p:spPr>
              <a:xfrm flipH="1" flipV="1">
                <a:off x="4841640" y="3415680"/>
                <a:ext cx="492120" cy="37116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09" name=""/>
              <p:cNvCxnSpPr>
                <a:stCxn id="290" idx="1"/>
                <a:endCxn id="307" idx="6"/>
              </p:cNvCxnSpPr>
              <p:nvPr/>
            </p:nvCxnSpPr>
            <p:spPr>
              <a:xfrm flipH="1" flipV="1">
                <a:off x="4841640" y="3778560"/>
                <a:ext cx="492120" cy="864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sp>
            <p:nvSpPr>
              <p:cNvPr id="310" name=""/>
              <p:cNvSpPr/>
              <p:nvPr/>
            </p:nvSpPr>
            <p:spPr>
              <a:xfrm>
                <a:off x="4820040" y="411012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20040" y="447300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2" name=""/>
              <p:cNvCxnSpPr>
                <a:stCxn id="290" idx="1"/>
                <a:endCxn id="310" idx="6"/>
              </p:cNvCxnSpPr>
              <p:nvPr/>
            </p:nvCxnSpPr>
            <p:spPr>
              <a:xfrm flipH="1">
                <a:off x="4841640" y="3786480"/>
                <a:ext cx="492120" cy="33948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13" name=""/>
              <p:cNvCxnSpPr>
                <a:stCxn id="290" idx="1"/>
                <a:endCxn id="311" idx="6"/>
              </p:cNvCxnSpPr>
              <p:nvPr/>
            </p:nvCxnSpPr>
            <p:spPr>
              <a:xfrm flipH="1">
                <a:off x="4841640" y="3786480"/>
                <a:ext cx="492120" cy="70236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4820040" y="3221280"/>
                <a:ext cx="14760" cy="2988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20040" y="357588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20040" y="392688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820040" y="4289400"/>
                <a:ext cx="14760" cy="2988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8" name=""/>
              <p:cNvCxnSpPr>
                <a:stCxn id="290" idx="1"/>
                <a:endCxn id="314" idx="6"/>
              </p:cNvCxnSpPr>
              <p:nvPr/>
            </p:nvCxnSpPr>
            <p:spPr>
              <a:xfrm flipH="1" flipV="1">
                <a:off x="4841640" y="3236400"/>
                <a:ext cx="492120" cy="55044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19" name=""/>
              <p:cNvCxnSpPr>
                <a:stCxn id="290" idx="1"/>
                <a:endCxn id="315" idx="6"/>
              </p:cNvCxnSpPr>
              <p:nvPr/>
            </p:nvCxnSpPr>
            <p:spPr>
              <a:xfrm flipH="1" flipV="1">
                <a:off x="4841640" y="3591360"/>
                <a:ext cx="492120" cy="19584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20" name=""/>
              <p:cNvCxnSpPr>
                <a:stCxn id="290" idx="1"/>
                <a:endCxn id="316" idx="6"/>
              </p:cNvCxnSpPr>
              <p:nvPr/>
            </p:nvCxnSpPr>
            <p:spPr>
              <a:xfrm flipH="1">
                <a:off x="4841640" y="3786840"/>
                <a:ext cx="492120" cy="15588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21" name=""/>
              <p:cNvCxnSpPr>
                <a:stCxn id="290" idx="1"/>
                <a:endCxn id="317" idx="6"/>
              </p:cNvCxnSpPr>
              <p:nvPr/>
            </p:nvCxnSpPr>
            <p:spPr>
              <a:xfrm flipH="1">
                <a:off x="4841640" y="3786840"/>
                <a:ext cx="492120" cy="51912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sp>
            <p:nvSpPr>
              <p:cNvPr id="322" name=""/>
              <p:cNvSpPr/>
              <p:nvPr/>
            </p:nvSpPr>
            <p:spPr>
              <a:xfrm>
                <a:off x="4820040" y="438228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20040" y="419688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20040" y="4015440"/>
                <a:ext cx="14760" cy="2988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20040" y="3841920"/>
                <a:ext cx="14760" cy="2988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20040" y="367272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20040" y="349740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20040" y="331596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20040" y="3124440"/>
                <a:ext cx="14760" cy="29160"/>
              </a:xfrm>
              <a:prstGeom prst="ellipse">
                <a:avLst/>
              </a:prstGeom>
              <a:solidFill>
                <a:srgbClr val="808080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0" name=""/>
              <p:cNvCxnSpPr>
                <a:endCxn id="329" idx="6"/>
              </p:cNvCxnSpPr>
              <p:nvPr/>
            </p:nvCxnSpPr>
            <p:spPr>
              <a:xfrm flipH="1" flipV="1">
                <a:off x="4841640" y="3139920"/>
                <a:ext cx="492120" cy="63468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31" name=""/>
              <p:cNvCxnSpPr>
                <a:stCxn id="290" idx="1"/>
                <a:endCxn id="328" idx="6"/>
              </p:cNvCxnSpPr>
              <p:nvPr/>
            </p:nvCxnSpPr>
            <p:spPr>
              <a:xfrm flipH="1" flipV="1">
                <a:off x="4841640" y="3330720"/>
                <a:ext cx="492120" cy="45612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32" name=""/>
              <p:cNvCxnSpPr>
                <a:stCxn id="290" idx="1"/>
                <a:endCxn id="327" idx="6"/>
              </p:cNvCxnSpPr>
              <p:nvPr/>
            </p:nvCxnSpPr>
            <p:spPr>
              <a:xfrm flipH="1" flipV="1">
                <a:off x="4841640" y="3512160"/>
                <a:ext cx="492120" cy="27468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33" name=""/>
              <p:cNvCxnSpPr>
                <a:stCxn id="290" idx="1"/>
                <a:endCxn id="326" idx="6"/>
              </p:cNvCxnSpPr>
              <p:nvPr/>
            </p:nvCxnSpPr>
            <p:spPr>
              <a:xfrm flipH="1" flipV="1">
                <a:off x="4841640" y="3687840"/>
                <a:ext cx="492120" cy="9936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34" name=""/>
              <p:cNvCxnSpPr>
                <a:stCxn id="290" idx="1"/>
                <a:endCxn id="325" idx="6"/>
              </p:cNvCxnSpPr>
              <p:nvPr/>
            </p:nvCxnSpPr>
            <p:spPr>
              <a:xfrm flipH="1">
                <a:off x="4841640" y="3786480"/>
                <a:ext cx="492120" cy="7164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35" name=""/>
              <p:cNvCxnSpPr>
                <a:stCxn id="290" idx="1"/>
                <a:endCxn id="324" idx="6"/>
              </p:cNvCxnSpPr>
              <p:nvPr/>
            </p:nvCxnSpPr>
            <p:spPr>
              <a:xfrm flipH="1">
                <a:off x="4841640" y="3786480"/>
                <a:ext cx="492120" cy="24480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36" name=""/>
              <p:cNvCxnSpPr>
                <a:stCxn id="290" idx="1"/>
                <a:endCxn id="323" idx="6"/>
              </p:cNvCxnSpPr>
              <p:nvPr/>
            </p:nvCxnSpPr>
            <p:spPr>
              <a:xfrm flipH="1">
                <a:off x="4841640" y="3786840"/>
                <a:ext cx="492120" cy="42624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  <p:cxnSp>
            <p:nvCxnSpPr>
              <p:cNvPr id="337" name=""/>
              <p:cNvCxnSpPr>
                <a:stCxn id="290" idx="1"/>
                <a:endCxn id="322" idx="6"/>
              </p:cNvCxnSpPr>
              <p:nvPr/>
            </p:nvCxnSpPr>
            <p:spPr>
              <a:xfrm flipH="1">
                <a:off x="4841640" y="3786480"/>
                <a:ext cx="492120" cy="611640"/>
              </a:xfrm>
              <a:prstGeom prst="straightConnector1">
                <a:avLst/>
              </a:prstGeom>
              <a:ln cap="rnd" w="1260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</p:cxnSp>
        </p:grpSp>
        <p:sp>
          <p:nvSpPr>
            <p:cNvPr id="338" name=""/>
            <p:cNvSpPr/>
            <p:nvPr/>
          </p:nvSpPr>
          <p:spPr>
            <a:xfrm>
              <a:off x="5642280" y="2905560"/>
              <a:ext cx="675720" cy="16938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95680" y="2346840"/>
              <a:ext cx="9342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8680" y="2548440"/>
              <a:ext cx="9360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3400" y="2346840"/>
              <a:ext cx="9342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834160" y="3369240"/>
              <a:ext cx="330840" cy="794520"/>
              <a:chOff x="5834160" y="3369240"/>
              <a:chExt cx="330840" cy="794520"/>
            </a:xfrm>
          </p:grpSpPr>
          <p:sp>
            <p:nvSpPr>
              <p:cNvPr id="343" name=""/>
              <p:cNvSpPr/>
              <p:nvPr/>
            </p:nvSpPr>
            <p:spPr>
              <a:xfrm>
                <a:off x="5839200" y="3375000"/>
                <a:ext cx="0" cy="788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59960" y="3617640"/>
                <a:ext cx="0" cy="293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34160" y="3369240"/>
                <a:ext cx="330840" cy="248400"/>
              </a:xfrm>
              <a:custGeom>
                <a:avLst/>
                <a:gdLst/>
                <a:ahLst/>
                <a:rect l="l" t="t" r="r" b="b"/>
                <a:pathLst>
                  <a:path w="183" h="126">
                    <a:moveTo>
                      <a:pt x="0" y="0"/>
                    </a:moveTo>
                    <a:cubicBezTo>
                      <a:pt x="38" y="40"/>
                      <a:pt x="75" y="78"/>
                      <a:pt x="105" y="99"/>
                    </a:cubicBezTo>
                    <a:cubicBezTo>
                      <a:pt x="135" y="120"/>
                      <a:pt x="167" y="121"/>
                      <a:pt x="183" y="126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834160" y="3913560"/>
                <a:ext cx="330840" cy="248400"/>
              </a:xfrm>
              <a:custGeom>
                <a:avLst/>
                <a:gdLst/>
                <a:ahLst/>
                <a:rect l="l" t="t" r="r" b="b"/>
                <a:pathLst>
                  <a:path w="183" h="126">
                    <a:moveTo>
                      <a:pt x="0" y="0"/>
                    </a:moveTo>
                    <a:cubicBezTo>
                      <a:pt x="38" y="40"/>
                      <a:pt x="75" y="78"/>
                      <a:pt x="105" y="99"/>
                    </a:cubicBezTo>
                    <a:cubicBezTo>
                      <a:pt x="135" y="120"/>
                      <a:pt x="167" y="121"/>
                      <a:pt x="183" y="126"/>
                    </a:cubicBezTo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4626000" y="2300760"/>
              <a:ext cx="805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Strumieni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zdarzeń /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komunikató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94240" y="2304720"/>
              <a:ext cx="2919600" cy="256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87840" y="2362680"/>
              <a:ext cx="607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Kod Ja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52640" y="237384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Źródł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zdarzeń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519960" y="3138120"/>
              <a:ext cx="610560" cy="615600"/>
              <a:chOff x="6519960" y="3138120"/>
              <a:chExt cx="610560" cy="615600"/>
            </a:xfrm>
          </p:grpSpPr>
          <p:sp>
            <p:nvSpPr>
              <p:cNvPr id="352" name=""/>
              <p:cNvSpPr/>
              <p:nvPr/>
            </p:nvSpPr>
            <p:spPr>
              <a:xfrm>
                <a:off x="6568920" y="3171960"/>
                <a:ext cx="321120" cy="34416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45" y="45"/>
                    </a:moveTo>
                    <a:lnTo>
                      <a:pt x="47" y="41"/>
                    </a:lnTo>
                    <a:lnTo>
                      <a:pt x="49" y="36"/>
                    </a:lnTo>
                    <a:lnTo>
                      <a:pt x="48" y="31"/>
                    </a:lnTo>
                    <a:lnTo>
                      <a:pt x="45" y="27"/>
                    </a:lnTo>
                    <a:lnTo>
                      <a:pt x="41" y="24"/>
                    </a:lnTo>
                    <a:lnTo>
                      <a:pt x="36" y="23"/>
                    </a:lnTo>
                    <a:lnTo>
                      <a:pt x="31" y="23"/>
                    </a:lnTo>
                    <a:lnTo>
                      <a:pt x="27" y="26"/>
                    </a:lnTo>
                    <a:lnTo>
                      <a:pt x="24" y="30"/>
                    </a:lnTo>
                    <a:lnTo>
                      <a:pt x="23" y="35"/>
                    </a:lnTo>
                    <a:lnTo>
                      <a:pt x="24" y="40"/>
                    </a:lnTo>
                    <a:lnTo>
                      <a:pt x="26" y="44"/>
                    </a:lnTo>
                    <a:lnTo>
                      <a:pt x="30" y="48"/>
                    </a:lnTo>
                    <a:lnTo>
                      <a:pt x="35" y="49"/>
                    </a:lnTo>
                    <a:lnTo>
                      <a:pt x="39" y="48"/>
                    </a:lnTo>
                    <a:lnTo>
                      <a:pt x="45" y="45"/>
                    </a:lnTo>
                    <a:lnTo>
                      <a:pt x="53" y="55"/>
                    </a:lnTo>
                    <a:lnTo>
                      <a:pt x="57" y="50"/>
                    </a:lnTo>
                    <a:lnTo>
                      <a:pt x="64" y="53"/>
                    </a:lnTo>
                    <a:lnTo>
                      <a:pt x="68" y="48"/>
                    </a:lnTo>
                    <a:lnTo>
                      <a:pt x="60" y="43"/>
                    </a:lnTo>
                    <a:lnTo>
                      <a:pt x="61" y="38"/>
                    </a:lnTo>
                    <a:lnTo>
                      <a:pt x="61" y="32"/>
                    </a:lnTo>
                    <a:lnTo>
                      <a:pt x="71" y="29"/>
                    </a:lnTo>
                    <a:lnTo>
                      <a:pt x="70" y="24"/>
                    </a:lnTo>
                    <a:lnTo>
                      <a:pt x="59" y="25"/>
                    </a:lnTo>
                    <a:lnTo>
                      <a:pt x="57" y="21"/>
                    </a:lnTo>
                    <a:lnTo>
                      <a:pt x="55" y="17"/>
                    </a:lnTo>
                    <a:lnTo>
                      <a:pt x="52" y="14"/>
                    </a:lnTo>
                    <a:lnTo>
                      <a:pt x="48" y="12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41" y="9"/>
                    </a:lnTo>
                    <a:lnTo>
                      <a:pt x="36" y="9"/>
                    </a:lnTo>
                    <a:lnTo>
                      <a:pt x="30" y="9"/>
                    </a:lnTo>
                    <a:lnTo>
                      <a:pt x="27" y="0"/>
                    </a:lnTo>
                    <a:lnTo>
                      <a:pt x="22" y="4"/>
                    </a:lnTo>
                    <a:lnTo>
                      <a:pt x="24" y="11"/>
                    </a:lnTo>
                    <a:lnTo>
                      <a:pt x="18" y="15"/>
                    </a:lnTo>
                    <a:lnTo>
                      <a:pt x="13" y="21"/>
                    </a:lnTo>
                    <a:lnTo>
                      <a:pt x="6" y="17"/>
                    </a:lnTo>
                    <a:lnTo>
                      <a:pt x="3" y="23"/>
                    </a:lnTo>
                    <a:lnTo>
                      <a:pt x="10" y="27"/>
                    </a:lnTo>
                    <a:lnTo>
                      <a:pt x="9" y="32"/>
                    </a:lnTo>
                    <a:lnTo>
                      <a:pt x="9" y="39"/>
                    </a:lnTo>
                    <a:lnTo>
                      <a:pt x="0" y="41"/>
                    </a:lnTo>
                    <a:lnTo>
                      <a:pt x="1" y="46"/>
                    </a:lnTo>
                    <a:lnTo>
                      <a:pt x="11" y="45"/>
                    </a:lnTo>
                    <a:lnTo>
                      <a:pt x="13" y="50"/>
                    </a:lnTo>
                    <a:lnTo>
                      <a:pt x="17" y="53"/>
                    </a:lnTo>
                    <a:lnTo>
                      <a:pt x="20" y="56"/>
                    </a:lnTo>
                    <a:lnTo>
                      <a:pt x="23" y="59"/>
                    </a:lnTo>
                    <a:lnTo>
                      <a:pt x="21" y="69"/>
                    </a:lnTo>
                    <a:lnTo>
                      <a:pt x="26" y="71"/>
                    </a:lnTo>
                    <a:lnTo>
                      <a:pt x="29" y="61"/>
                    </a:lnTo>
                    <a:lnTo>
                      <a:pt x="35" y="63"/>
                    </a:lnTo>
                    <a:lnTo>
                      <a:pt x="40" y="61"/>
                    </a:lnTo>
                    <a:lnTo>
                      <a:pt x="44" y="70"/>
                    </a:lnTo>
                    <a:lnTo>
                      <a:pt x="50" y="67"/>
                    </a:lnTo>
                    <a:lnTo>
                      <a:pt x="48" y="59"/>
                    </a:lnTo>
                    <a:lnTo>
                      <a:pt x="53" y="55"/>
                    </a:lnTo>
                    <a:lnTo>
                      <a:pt x="45" y="45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867720" y="3138120"/>
                <a:ext cx="262800" cy="295560"/>
              </a:xfrm>
              <a:custGeom>
                <a:avLst/>
                <a:gdLst/>
                <a:ahLst/>
                <a:rect l="l" t="t" r="r" b="b"/>
                <a:pathLst>
                  <a:path w="58" h="61">
                    <a:moveTo>
                      <a:pt x="38" y="36"/>
                    </a:moveTo>
                    <a:lnTo>
                      <a:pt x="40" y="33"/>
                    </a:lnTo>
                    <a:lnTo>
                      <a:pt x="40" y="29"/>
                    </a:lnTo>
                    <a:lnTo>
                      <a:pt x="38" y="25"/>
                    </a:lnTo>
                    <a:lnTo>
                      <a:pt x="35" y="21"/>
                    </a:lnTo>
                    <a:lnTo>
                      <a:pt x="32" y="19"/>
                    </a:lnTo>
                    <a:lnTo>
                      <a:pt x="28" y="19"/>
                    </a:lnTo>
                    <a:lnTo>
                      <a:pt x="24" y="21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9" y="32"/>
                    </a:lnTo>
                    <a:lnTo>
                      <a:pt x="21" y="36"/>
                    </a:lnTo>
                    <a:lnTo>
                      <a:pt x="23" y="39"/>
                    </a:lnTo>
                    <a:lnTo>
                      <a:pt x="27" y="42"/>
                    </a:lnTo>
                    <a:lnTo>
                      <a:pt x="31" y="42"/>
                    </a:lnTo>
                    <a:lnTo>
                      <a:pt x="35" y="39"/>
                    </a:lnTo>
                    <a:lnTo>
                      <a:pt x="38" y="36"/>
                    </a:lnTo>
                    <a:lnTo>
                      <a:pt x="47" y="43"/>
                    </a:lnTo>
                    <a:lnTo>
                      <a:pt x="50" y="38"/>
                    </a:lnTo>
                    <a:lnTo>
                      <a:pt x="57" y="39"/>
                    </a:lnTo>
                    <a:lnTo>
                      <a:pt x="58" y="34"/>
                    </a:lnTo>
                    <a:lnTo>
                      <a:pt x="51" y="32"/>
                    </a:lnTo>
                    <a:lnTo>
                      <a:pt x="51" y="27"/>
                    </a:lnTo>
                    <a:lnTo>
                      <a:pt x="50" y="22"/>
                    </a:lnTo>
                    <a:lnTo>
                      <a:pt x="57" y="18"/>
                    </a:lnTo>
                    <a:lnTo>
                      <a:pt x="55" y="14"/>
                    </a:lnTo>
                    <a:lnTo>
                      <a:pt x="47" y="17"/>
                    </a:lnTo>
                    <a:lnTo>
                      <a:pt x="45" y="14"/>
                    </a:lnTo>
                    <a:lnTo>
                      <a:pt x="42" y="12"/>
                    </a:lnTo>
                    <a:lnTo>
                      <a:pt x="38" y="10"/>
                    </a:lnTo>
                    <a:lnTo>
                      <a:pt x="35" y="8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9" y="7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5" y="3"/>
                    </a:lnTo>
                    <a:lnTo>
                      <a:pt x="11" y="6"/>
                    </a:lnTo>
                    <a:lnTo>
                      <a:pt x="14" y="13"/>
                    </a:lnTo>
                    <a:lnTo>
                      <a:pt x="11" y="17"/>
                    </a:lnTo>
                    <a:lnTo>
                      <a:pt x="8" y="22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7" y="29"/>
                    </a:lnTo>
                    <a:lnTo>
                      <a:pt x="7" y="33"/>
                    </a:lnTo>
                    <a:lnTo>
                      <a:pt x="8" y="38"/>
                    </a:lnTo>
                    <a:lnTo>
                      <a:pt x="2" y="42"/>
                    </a:lnTo>
                    <a:lnTo>
                      <a:pt x="3" y="46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6" y="49"/>
                    </a:lnTo>
                    <a:lnTo>
                      <a:pt x="20" y="50"/>
                    </a:lnTo>
                    <a:lnTo>
                      <a:pt x="23" y="52"/>
                    </a:lnTo>
                    <a:lnTo>
                      <a:pt x="23" y="61"/>
                    </a:lnTo>
                    <a:lnTo>
                      <a:pt x="28" y="61"/>
                    </a:lnTo>
                    <a:lnTo>
                      <a:pt x="29" y="52"/>
                    </a:lnTo>
                    <a:lnTo>
                      <a:pt x="34" y="52"/>
                    </a:lnTo>
                    <a:lnTo>
                      <a:pt x="38" y="51"/>
                    </a:lnTo>
                    <a:lnTo>
                      <a:pt x="43" y="57"/>
                    </a:lnTo>
                    <a:lnTo>
                      <a:pt x="47" y="53"/>
                    </a:lnTo>
                    <a:lnTo>
                      <a:pt x="44" y="47"/>
                    </a:lnTo>
                    <a:lnTo>
                      <a:pt x="47" y="43"/>
                    </a:lnTo>
                    <a:lnTo>
                      <a:pt x="38" y="36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519960" y="3492000"/>
                <a:ext cx="248400" cy="26172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33" y="36"/>
                    </a:moveTo>
                    <a:lnTo>
                      <a:pt x="35" y="33"/>
                    </a:lnTo>
                    <a:lnTo>
                      <a:pt x="37" y="30"/>
                    </a:lnTo>
                    <a:lnTo>
                      <a:pt x="38" y="27"/>
                    </a:lnTo>
                    <a:lnTo>
                      <a:pt x="37" y="22"/>
                    </a:lnTo>
                    <a:lnTo>
                      <a:pt x="34" y="19"/>
                    </a:lnTo>
                    <a:lnTo>
                      <a:pt x="31" y="17"/>
                    </a:lnTo>
                    <a:lnTo>
                      <a:pt x="27" y="17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3"/>
                    </a:lnTo>
                    <a:lnTo>
                      <a:pt x="18" y="28"/>
                    </a:lnTo>
                    <a:lnTo>
                      <a:pt x="19" y="32"/>
                    </a:lnTo>
                    <a:lnTo>
                      <a:pt x="21" y="35"/>
                    </a:lnTo>
                    <a:lnTo>
                      <a:pt x="24" y="36"/>
                    </a:lnTo>
                    <a:lnTo>
                      <a:pt x="28" y="37"/>
                    </a:lnTo>
                    <a:lnTo>
                      <a:pt x="33" y="36"/>
                    </a:lnTo>
                    <a:lnTo>
                      <a:pt x="37" y="45"/>
                    </a:lnTo>
                    <a:lnTo>
                      <a:pt x="41" y="43"/>
                    </a:lnTo>
                    <a:lnTo>
                      <a:pt x="46" y="46"/>
                    </a:lnTo>
                    <a:lnTo>
                      <a:pt x="49" y="43"/>
                    </a:lnTo>
                    <a:lnTo>
                      <a:pt x="44" y="37"/>
                    </a:lnTo>
                    <a:lnTo>
                      <a:pt x="46" y="34"/>
                    </a:lnTo>
                    <a:lnTo>
                      <a:pt x="47" y="30"/>
                    </a:lnTo>
                    <a:lnTo>
                      <a:pt x="55" y="30"/>
                    </a:lnTo>
                    <a:lnTo>
                      <a:pt x="55" y="25"/>
                    </a:lnTo>
                    <a:lnTo>
                      <a:pt x="47" y="24"/>
                    </a:lnTo>
                    <a:lnTo>
                      <a:pt x="45" y="17"/>
                    </a:lnTo>
                    <a:lnTo>
                      <a:pt x="41" y="11"/>
                    </a:lnTo>
                    <a:lnTo>
                      <a:pt x="45" y="5"/>
                    </a:lnTo>
                    <a:lnTo>
                      <a:pt x="41" y="3"/>
                    </a:lnTo>
                    <a:lnTo>
                      <a:pt x="37" y="8"/>
                    </a:lnTo>
                    <a:lnTo>
                      <a:pt x="33" y="7"/>
                    </a:lnTo>
                    <a:lnTo>
                      <a:pt x="28" y="6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3" y="7"/>
                    </a:lnTo>
                    <a:lnTo>
                      <a:pt x="18" y="8"/>
                    </a:lnTo>
                    <a:lnTo>
                      <a:pt x="14" y="11"/>
                    </a:lnTo>
                    <a:lnTo>
                      <a:pt x="10" y="7"/>
                    </a:lnTo>
                    <a:lnTo>
                      <a:pt x="6" y="11"/>
                    </a:lnTo>
                    <a:lnTo>
                      <a:pt x="11" y="16"/>
                    </a:lnTo>
                    <a:lnTo>
                      <a:pt x="9" y="20"/>
                    </a:lnTo>
                    <a:lnTo>
                      <a:pt x="8" y="23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8" y="30"/>
                    </a:lnTo>
                    <a:lnTo>
                      <a:pt x="10" y="36"/>
                    </a:lnTo>
                    <a:lnTo>
                      <a:pt x="14" y="42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8" y="45"/>
                    </a:lnTo>
                    <a:lnTo>
                      <a:pt x="22" y="47"/>
                    </a:lnTo>
                    <a:lnTo>
                      <a:pt x="26" y="47"/>
                    </a:lnTo>
                    <a:lnTo>
                      <a:pt x="27" y="54"/>
                    </a:lnTo>
                    <a:lnTo>
                      <a:pt x="32" y="53"/>
                    </a:lnTo>
                    <a:lnTo>
                      <a:pt x="32" y="47"/>
                    </a:lnTo>
                    <a:lnTo>
                      <a:pt x="37" y="45"/>
                    </a:lnTo>
                    <a:lnTo>
                      <a:pt x="33" y="36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6773760" y="3749760"/>
              <a:ext cx="99000" cy="272520"/>
            </a:xfrm>
            <a:prstGeom prst="upArrow">
              <a:avLst>
                <a:gd name="adj1" fmla="val 50000"/>
                <a:gd name="adj2" fmla="val 68818"/>
              </a:avLst>
            </a:pr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7400" y="235044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Przetwarzani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800" spc="-1" strike="noStrike">
                  <a:solidFill>
                    <a:srgbClr val="000000"/>
                  </a:solidFill>
                  <a:latin typeface="Arial"/>
                </a:rPr>
                <a:t>Korelacj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00960" y="3465720"/>
              <a:ext cx="414720" cy="425520"/>
            </a:xfrm>
            <a:custGeom>
              <a:avLst/>
              <a:gdLst>
                <a:gd name="textAreaLeft" fmla="*/ 64800 w 414720"/>
                <a:gd name="textAreaRight" fmla="*/ 362880 w 414720"/>
                <a:gd name="textAreaTop" fmla="*/ 106200 h 425520"/>
                <a:gd name="textAreaBottom" fmla="*/ 31932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2680" y="342720"/>
            <a:ext cx="8594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29"/>
                </a:solidFill>
                <a:latin typeface="Arial"/>
              </a:rPr>
              <a:t>Przykład: </a:t>
            </a:r>
            <a:r>
              <a:rPr b="0" lang="en-US" sz="3600" spc="-1" strike="noStrike">
                <a:solidFill>
                  <a:srgbClr val="ff0029"/>
                </a:solidFill>
                <a:latin typeface="Arial"/>
              </a:rPr>
              <a:t>WebLogic </a:t>
            </a:r>
            <a:r>
              <a:rPr b="0" lang="pl-PL" sz="3600" spc="-1" strike="noStrike">
                <a:solidFill>
                  <a:srgbClr val="ff0029"/>
                </a:solidFill>
                <a:latin typeface="Arial"/>
              </a:rPr>
              <a:t>Event Server</a:t>
            </a:r>
            <a:r>
              <a:rPr b="0" lang="en-US" sz="3600" spc="-1" strike="noStrike">
                <a:solidFill>
                  <a:srgbClr val="ff00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2920" y="1454040"/>
            <a:ext cx="5440320" cy="5121360"/>
          </a:xfrm>
          <a:prstGeom prst="roundRect">
            <a:avLst>
              <a:gd name="adj" fmla="val 2713"/>
            </a:avLst>
          </a:prstGeom>
          <a:gradFill rotWithShape="0">
            <a:gsLst>
              <a:gs pos="0">
                <a:srgbClr val="0072ea"/>
              </a:gs>
              <a:gs pos="50000">
                <a:srgbClr val="4296ee"/>
              </a:gs>
              <a:gs pos="100000">
                <a:srgbClr val="0072ea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b3b3b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42920" y="2455920"/>
            <a:ext cx="4664160" cy="3187800"/>
          </a:xfrm>
          <a:prstGeom prst="roundRect">
            <a:avLst>
              <a:gd name="adj" fmla="val 3060"/>
            </a:avLst>
          </a:prstGeom>
          <a:solidFill>
            <a:srgbClr val="ffff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62280" y="2454120"/>
            <a:ext cx="2879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spcBef>
                <a:spcPts val="612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Logic Event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1160" y="2744640"/>
            <a:ext cx="4389480" cy="71460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62280" y="2773440"/>
            <a:ext cx="2879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spcBef>
                <a:spcPts val="43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00120" y="3002040"/>
            <a:ext cx="1096920" cy="365040"/>
            <a:chOff x="1500120" y="3002040"/>
            <a:chExt cx="1096920" cy="365040"/>
          </a:xfrm>
        </p:grpSpPr>
        <p:sp>
          <p:nvSpPr>
            <p:cNvPr id="365" name=""/>
            <p:cNvSpPr/>
            <p:nvPr/>
          </p:nvSpPr>
          <p:spPr>
            <a:xfrm>
              <a:off x="1500120" y="3002040"/>
              <a:ext cx="1096920" cy="365040"/>
            </a:xfrm>
            <a:prstGeom prst="roundRect">
              <a:avLst>
                <a:gd name="adj" fmla="val 12088"/>
              </a:avLst>
            </a:prstGeom>
            <a:solidFill>
              <a:srgbClr val="0072ea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00120" y="3062160"/>
              <a:ext cx="109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OJ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679840" y="3002040"/>
            <a:ext cx="1197000" cy="365040"/>
            <a:chOff x="2679840" y="3002040"/>
            <a:chExt cx="1197000" cy="365040"/>
          </a:xfrm>
        </p:grpSpPr>
        <p:sp>
          <p:nvSpPr>
            <p:cNvPr id="368" name=""/>
            <p:cNvSpPr/>
            <p:nvPr/>
          </p:nvSpPr>
          <p:spPr>
            <a:xfrm>
              <a:off x="2679840" y="3002040"/>
              <a:ext cx="1197000" cy="365040"/>
            </a:xfrm>
            <a:prstGeom prst="roundRect">
              <a:avLst>
                <a:gd name="adj" fmla="val 12088"/>
              </a:avLst>
            </a:prstGeom>
            <a:solidFill>
              <a:srgbClr val="0072ea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79840" y="3063960"/>
              <a:ext cx="1197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r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970440" y="3002040"/>
            <a:ext cx="1187280" cy="365040"/>
            <a:chOff x="3970440" y="3002040"/>
            <a:chExt cx="1187280" cy="365040"/>
          </a:xfrm>
        </p:grpSpPr>
        <p:sp>
          <p:nvSpPr>
            <p:cNvPr id="371" name=""/>
            <p:cNvSpPr/>
            <p:nvPr/>
          </p:nvSpPr>
          <p:spPr>
            <a:xfrm>
              <a:off x="3970440" y="3002040"/>
              <a:ext cx="1187280" cy="365040"/>
            </a:xfrm>
            <a:prstGeom prst="roundRect">
              <a:avLst>
                <a:gd name="adj" fmla="val 12088"/>
              </a:avLst>
            </a:prstGeom>
            <a:solidFill>
              <a:srgbClr val="0072ea">
                <a:alpha val="2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70440" y="3062160"/>
              <a:ext cx="11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r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181160" y="3513240"/>
            <a:ext cx="4389480" cy="1203120"/>
          </a:xfrm>
          <a:prstGeom prst="roundRect">
            <a:avLst>
              <a:gd name="adj" fmla="val 859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6960" y="3510000"/>
            <a:ext cx="2879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spcBef>
                <a:spcPts val="5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t Server Infrastructur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130640" y="3774960"/>
            <a:ext cx="1393560" cy="880920"/>
            <a:chOff x="4130640" y="3774960"/>
            <a:chExt cx="1393560" cy="880920"/>
          </a:xfrm>
        </p:grpSpPr>
        <p:sp>
          <p:nvSpPr>
            <p:cNvPr id="376" name=""/>
            <p:cNvSpPr/>
            <p:nvPr/>
          </p:nvSpPr>
          <p:spPr>
            <a:xfrm>
              <a:off x="4147200" y="3774960"/>
              <a:ext cx="1362960" cy="880920"/>
            </a:xfrm>
            <a:prstGeom prst="flowChartAlternateProcess">
              <a:avLst/>
            </a:prstGeom>
            <a:solidFill>
              <a:srgbClr val="0072ea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30640" y="3928320"/>
              <a:ext cx="1393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al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181160" y="4813200"/>
            <a:ext cx="4389480" cy="730440"/>
          </a:xfrm>
          <a:prstGeom prst="roundRect">
            <a:avLst>
              <a:gd name="adj" fmla="val 65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66960" y="4807080"/>
            <a:ext cx="2879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spcBef>
                <a:spcPts val="437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on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41840" y="3073320"/>
            <a:ext cx="365040" cy="228600"/>
          </a:xfrm>
          <a:prstGeom prst="leftArrow">
            <a:avLst>
              <a:gd name="adj1" fmla="val 50000"/>
              <a:gd name="adj2" fmla="val 39921"/>
            </a:avLst>
          </a:prstGeom>
          <a:solidFill>
            <a:srgbClr val="c0c0c0">
              <a:alpha val="9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1582560"/>
            <a:ext cx="4664160" cy="822600"/>
          </a:xfrm>
          <a:prstGeom prst="roundRect">
            <a:avLst>
              <a:gd name="adj" fmla="val 10037"/>
            </a:avLst>
          </a:prstGeom>
          <a:solidFill>
            <a:srgbClr val="ffff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62280" y="1622520"/>
            <a:ext cx="2879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spcBef>
                <a:spcPts val="612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 Development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606680" y="1930320"/>
            <a:ext cx="1631880" cy="384120"/>
            <a:chOff x="1606680" y="1930320"/>
            <a:chExt cx="1631880" cy="384120"/>
          </a:xfrm>
        </p:grpSpPr>
        <p:sp>
          <p:nvSpPr>
            <p:cNvPr id="384" name=""/>
            <p:cNvSpPr/>
            <p:nvPr/>
          </p:nvSpPr>
          <p:spPr>
            <a:xfrm>
              <a:off x="1606680" y="1930320"/>
              <a:ext cx="1631880" cy="384120"/>
            </a:xfrm>
            <a:prstGeom prst="roundRect">
              <a:avLst>
                <a:gd name="adj" fmla="val 12088"/>
              </a:avLst>
            </a:prstGeom>
            <a:solidFill>
              <a:srgbClr val="0072ea">
                <a:alpha val="2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06680" y="1993680"/>
              <a:ext cx="163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nt Processing Too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343320" y="1930320"/>
            <a:ext cx="1631880" cy="384120"/>
            <a:chOff x="3343320" y="1930320"/>
            <a:chExt cx="1631880" cy="384120"/>
          </a:xfrm>
        </p:grpSpPr>
        <p:sp>
          <p:nvSpPr>
            <p:cNvPr id="387" name=""/>
            <p:cNvSpPr/>
            <p:nvPr/>
          </p:nvSpPr>
          <p:spPr>
            <a:xfrm>
              <a:off x="3343320" y="1930320"/>
              <a:ext cx="1631880" cy="384120"/>
            </a:xfrm>
            <a:prstGeom prst="roundRect">
              <a:avLst>
                <a:gd name="adj" fmla="val 12088"/>
              </a:avLst>
            </a:prstGeom>
            <a:solidFill>
              <a:srgbClr val="0072ea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43320" y="1998360"/>
              <a:ext cx="163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LW Real Time 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27040" y="1582560"/>
            <a:ext cx="412920" cy="4846680"/>
          </a:xfrm>
          <a:custGeom>
            <a:avLst/>
            <a:gdLst>
              <a:gd name="textAreaLeft" fmla="*/ 24480 w 412920"/>
              <a:gd name="textAreaRight" fmla="*/ 388440 w 412920"/>
              <a:gd name="textAreaTop" fmla="*/ 24480 h 4846680"/>
              <a:gd name="textAreaBottom" fmla="*/ 4822200 h 4846680"/>
            </a:gdLst>
            <a:ahLst/>
            <a:rect l="textAreaLeft" t="textAreaTop" r="textAreaRight" b="textAreaBottom"/>
            <a:pathLst>
              <a:path w="21600" h="253330">
                <a:moveTo>
                  <a:pt x="4403" y="0"/>
                </a:moveTo>
                <a:arcTo wR="4403" hR="4403" stAng="16200000" swAng="-5400000"/>
                <a:lnTo>
                  <a:pt x="0" y="248927"/>
                </a:lnTo>
                <a:arcTo wR="4403" hR="4403" stAng="10800000" swAng="-5400000"/>
                <a:lnTo>
                  <a:pt x="17197" y="253330"/>
                </a:lnTo>
                <a:arcTo wR="4403" hR="4403" stAng="5400000" swAng="-5400000"/>
                <a:lnTo>
                  <a:pt x="21600" y="4403"/>
                </a:lnTo>
                <a:arcTo wR="4403" hR="4403" stAng="0" swAng="-5400000"/>
                <a:close/>
              </a:path>
            </a:pathLst>
          </a:custGeom>
          <a:solidFill>
            <a:srgbClr val="ffff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-888120" y="4204440"/>
            <a:ext cx="3255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spcBef>
                <a:spcPts val="612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oS Latency 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42920" y="5721480"/>
            <a:ext cx="4664160" cy="777600"/>
          </a:xfrm>
          <a:prstGeom prst="roundRect">
            <a:avLst>
              <a:gd name="adj" fmla="val 10407"/>
            </a:avLst>
          </a:prstGeom>
          <a:solidFill>
            <a:srgbClr val="ffff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5721480"/>
            <a:ext cx="2879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90000"/>
              </a:lnSpc>
              <a:spcBef>
                <a:spcPts val="612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560680" y="6022800"/>
            <a:ext cx="1634760" cy="492120"/>
            <a:chOff x="2560680" y="6022800"/>
            <a:chExt cx="1634760" cy="492120"/>
          </a:xfrm>
        </p:grpSpPr>
        <p:sp>
          <p:nvSpPr>
            <p:cNvPr id="394" name=""/>
            <p:cNvSpPr/>
            <p:nvPr/>
          </p:nvSpPr>
          <p:spPr>
            <a:xfrm>
              <a:off x="2560680" y="6022800"/>
              <a:ext cx="1634760" cy="384120"/>
            </a:xfrm>
            <a:prstGeom prst="roundRect">
              <a:avLst>
                <a:gd name="adj" fmla="val 12088"/>
              </a:avLst>
            </a:prstGeom>
            <a:solidFill>
              <a:srgbClr val="0072ea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60680" y="6086160"/>
              <a:ext cx="1634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ebLogic Realtim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120680" y="6021360"/>
            <a:ext cx="1325520" cy="384120"/>
            <a:chOff x="1120680" y="6021360"/>
            <a:chExt cx="1325520" cy="384120"/>
          </a:xfrm>
        </p:grpSpPr>
        <p:sp>
          <p:nvSpPr>
            <p:cNvPr id="397" name=""/>
            <p:cNvSpPr/>
            <p:nvPr/>
          </p:nvSpPr>
          <p:spPr>
            <a:xfrm>
              <a:off x="1120680" y="6021360"/>
              <a:ext cx="1325520" cy="384120"/>
            </a:xfrm>
            <a:prstGeom prst="roundRect">
              <a:avLst>
                <a:gd name="adj" fmla="val 12088"/>
              </a:avLst>
            </a:prstGeom>
            <a:solidFill>
              <a:srgbClr val="0072ea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20680" y="6084720"/>
              <a:ext cx="132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Rock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606920" y="5040360"/>
            <a:ext cx="914400" cy="409680"/>
          </a:xfrm>
          <a:prstGeom prst="roundRect">
            <a:avLst>
              <a:gd name="adj" fmla="val 12088"/>
            </a:avLst>
          </a:prstGeom>
          <a:solidFill>
            <a:srgbClr val="0072ea">
              <a:alpha val="20000"/>
            </a:srgbClr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60640" y="506268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ul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38400" y="5049720"/>
            <a:ext cx="1015920" cy="409680"/>
          </a:xfrm>
          <a:prstGeom prst="roundRect">
            <a:avLst>
              <a:gd name="adj" fmla="val 12088"/>
            </a:avLst>
          </a:prstGeom>
          <a:solidFill>
            <a:srgbClr val="0072ea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99160" y="5060880"/>
            <a:ext cx="104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guration &amp;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32160" y="5048280"/>
            <a:ext cx="914400" cy="409680"/>
          </a:xfrm>
          <a:prstGeom prst="roundRect">
            <a:avLst>
              <a:gd name="adj" fmla="val 12088"/>
            </a:avLst>
          </a:prstGeom>
          <a:solidFill>
            <a:srgbClr val="0072ea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76520" y="51386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13240" y="5048280"/>
            <a:ext cx="914400" cy="409680"/>
          </a:xfrm>
          <a:prstGeom prst="roundRect">
            <a:avLst>
              <a:gd name="adj" fmla="val 12088"/>
            </a:avLst>
          </a:prstGeom>
          <a:solidFill>
            <a:srgbClr val="0072ea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71640" y="514044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g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40360" y="1378080"/>
            <a:ext cx="32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kki kontener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integrowany silni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parcie dla logiki biznesowej w postac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skie opóźnienia, determiniz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miar opóź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rchitektura BEA 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313160" y="6026040"/>
            <a:ext cx="1336680" cy="384120"/>
            <a:chOff x="4313160" y="6026040"/>
            <a:chExt cx="1336680" cy="384120"/>
          </a:xfrm>
        </p:grpSpPr>
        <p:sp>
          <p:nvSpPr>
            <p:cNvPr id="409" name=""/>
            <p:cNvSpPr/>
            <p:nvPr/>
          </p:nvSpPr>
          <p:spPr>
            <a:xfrm>
              <a:off x="4313160" y="6026040"/>
              <a:ext cx="1336680" cy="384120"/>
            </a:xfrm>
            <a:prstGeom prst="roundRect">
              <a:avLst>
                <a:gd name="adj" fmla="val 12088"/>
              </a:avLst>
            </a:prstGeom>
            <a:solidFill>
              <a:srgbClr val="0072ea">
                <a:alpha val="20000"/>
              </a:srgbClr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13160" y="6089400"/>
              <a:ext cx="133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quid JV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190520" y="3776760"/>
            <a:ext cx="2900880" cy="899640"/>
            <a:chOff x="1190520" y="3776760"/>
            <a:chExt cx="2900880" cy="899640"/>
          </a:xfrm>
        </p:grpSpPr>
        <p:grpSp>
          <p:nvGrpSpPr>
            <p:cNvPr id="412" name=""/>
            <p:cNvGrpSpPr/>
            <p:nvPr/>
          </p:nvGrpSpPr>
          <p:grpSpPr>
            <a:xfrm>
              <a:off x="1309680" y="4226040"/>
              <a:ext cx="1391760" cy="387360"/>
              <a:chOff x="1309680" y="4226040"/>
              <a:chExt cx="1391760" cy="387360"/>
            </a:xfrm>
          </p:grpSpPr>
          <p:sp>
            <p:nvSpPr>
              <p:cNvPr id="413" name=""/>
              <p:cNvSpPr/>
              <p:nvPr/>
            </p:nvSpPr>
            <p:spPr>
              <a:xfrm>
                <a:off x="1325520" y="4226040"/>
                <a:ext cx="1361880" cy="387360"/>
              </a:xfrm>
              <a:prstGeom prst="flowChartAlternateProcess">
                <a:avLst/>
              </a:prstGeom>
              <a:solidFill>
                <a:srgbClr val="0072ea">
                  <a:alpha val="2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309680" y="4294440"/>
                <a:ext cx="139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1360" indent="-171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ream Manag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770200" y="4138920"/>
              <a:ext cx="1265040" cy="479160"/>
              <a:chOff x="2770200" y="4138920"/>
              <a:chExt cx="1265040" cy="479160"/>
            </a:xfrm>
          </p:grpSpPr>
          <p:sp>
            <p:nvSpPr>
              <p:cNvPr id="416" name=""/>
              <p:cNvSpPr/>
              <p:nvPr/>
            </p:nvSpPr>
            <p:spPr>
              <a:xfrm>
                <a:off x="2784600" y="4138920"/>
                <a:ext cx="1238040" cy="469080"/>
              </a:xfrm>
              <a:prstGeom prst="flowChartAlternateProcess">
                <a:avLst/>
              </a:prstGeom>
              <a:solidFill>
                <a:srgbClr val="0072ea">
                  <a:alpha val="2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70200" y="4219560"/>
                <a:ext cx="1265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1360" indent="-171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mplex Event Process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1190520" y="3776760"/>
              <a:ext cx="2900880" cy="899640"/>
              <a:chOff x="1190520" y="3776760"/>
              <a:chExt cx="2900880" cy="899640"/>
            </a:xfrm>
          </p:grpSpPr>
          <p:sp>
            <p:nvSpPr>
              <p:cNvPr id="419" name=""/>
              <p:cNvSpPr/>
              <p:nvPr/>
            </p:nvSpPr>
            <p:spPr>
              <a:xfrm>
                <a:off x="1252080" y="3776760"/>
                <a:ext cx="2838960" cy="899640"/>
              </a:xfrm>
              <a:prstGeom prst="flowChartAlternateProcess">
                <a:avLst/>
              </a:prstGeom>
              <a:solidFill>
                <a:srgbClr val="0072ea">
                  <a:alpha val="2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90520" y="3821400"/>
                <a:ext cx="290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1360" indent="-17136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ream Process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ldemar Kot</dc:creator>
  <dc:description/>
  <cp:keywords>ESP CEP EDA SOA</cp:keywords>
  <dc:language>en-US</dc:language>
  <cp:lastModifiedBy>Waldemar Kot</cp:lastModifiedBy>
  <dcterms:modified xsi:type="dcterms:W3CDTF">2008-03-12T22:48:06Z</dcterms:modified>
  <cp:revision>269</cp:revision>
  <dc:subject>Przetwarzanie zdarzeniowe</dc:subject>
  <dc:title>Warszawa Java User Group (WJUG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